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</p:sldIdLst>
  <p:sldSz cx="9907588" cy="6858000"/>
  <p:notesSz cx="6858000" cy="97742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77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3885840" y="-1440"/>
            <a:ext cx="2971800" cy="49032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3F2C5F5-8B46-4945-8ADA-F1567CB65EB9}" type="datetime">
              <a:rPr b="0" i="1" lang="en-US" sz="10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789120" y="738000"/>
            <a:ext cx="5279760" cy="3654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5"/>
          </p:nvPr>
        </p:nvSpPr>
        <p:spPr>
          <a:xfrm>
            <a:off x="-36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6"/>
          </p:nvPr>
        </p:nvSpPr>
        <p:spPr>
          <a:xfrm>
            <a:off x="3885840" y="9284760"/>
            <a:ext cx="2971800" cy="489240"/>
          </a:xfrm>
          <a:prstGeom prst="rect">
            <a:avLst/>
          </a:prstGeom>
          <a:noFill/>
          <a:ln w="0">
            <a:noFill/>
          </a:ln>
        </p:spPr>
        <p:txBody>
          <a:bodyPr lIns="19080" rIns="1908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i="1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838FC8AD-0F23-4525-8FDA-086221EA9848}" type="slidenum">
              <a:rPr b="0" i="1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ble to all database acce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just DB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787320" y="736560"/>
            <a:ext cx="5268960" cy="364968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shot of the explain tool in a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te progression from last sl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 -&gt; prep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SQL doesn’t support placehol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the driver emulates th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us prepare &amp; execute is still a gain for tight loop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it avoids the DBI handle creation overh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overhead of $dbh-&gt;ping in connect_cached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lvl="1" marL="57168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val { } is very cheap: 4.4 microseconds on a SPARC Ultra 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 your head spinning ye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on't worry, you don't need to know this stuff to use the DBI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789120" y="738360"/>
            <a:ext cx="5279760" cy="365436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omicity   - all or noth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istency - database stays consistent, no violations of constrain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solation   - each transaction executes as if done seri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urability  - once the transaction completes, the changes will persi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 properties are implemented by concurrency controls and recovery mechanis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785880" y="760320"/>
            <a:ext cx="5276880" cy="365292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641480"/>
            <a:ext cx="5029200" cy="4398840"/>
          </a:xfrm>
          <a:prstGeom prst="rect">
            <a:avLst/>
          </a:prstGeom>
          <a:noFill/>
          <a:ln w="0">
            <a:noFill/>
          </a:ln>
        </p:spPr>
        <p:txBody>
          <a:bodyPr lIns="91800" rIns="91800" tIns="46080" bIns="46080" anchor="t">
            <a:noAutofit/>
          </a:bodyPr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atabase logical design and physical imple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e always first priority, but beyond our scope h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pplication part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k close to the data - actually inside the database is b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ored procedu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y benefits where they are applica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5256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anguage often painfully limited compared with Pe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oving data is expensive -bandwidth (bulk) and latency (iteration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904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ulk-load - use proprietary tools for maximum spe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you can use perl to massage the data into the right for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- bulk-load tools often have limited functiona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se DBI for maximum flexibility, such as update-else-inse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3EC1D-041C-46CA-9345-7DECFAB01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9EE31-D7C3-4083-82B7-F150F01F7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91BA-F271-4DB6-B596-24E0110E1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D986-6CC2-4DAC-A217-6348AA26A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3E78E-2ECA-4A4D-A2B2-B8668C2F2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570A-F885-4686-8FC1-5B54BB545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0407-5783-48C7-8611-534506DC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C666-7EBA-4063-B948-F5ACCBFD6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5904-BB9B-4BBB-9B5F-7F78FF14F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0869-16ED-4496-B89A-89B80F4BC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51FF-6026-4268-A439-DCCF4E4F8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83004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74360" y="411480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148572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83004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74360" y="5030640"/>
            <a:ext cx="2232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D08DA-8E9B-44C1-9BB0-4EE7B3099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42680" y="205704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38920" y="503064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857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38920" y="4114800"/>
            <a:ext cx="3383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485720" y="5030640"/>
            <a:ext cx="69339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903960" cy="152280"/>
            <a:chOff x="0" y="1428840"/>
            <a:chExt cx="990396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90396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90396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9109800" y="6408360"/>
            <a:ext cx="99576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1974F-A9D7-4542-BD49-F4C340612918}" type="slidenum">
              <a:rPr b="0" i="1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254720" y="0"/>
            <a:ext cx="2651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Advanced DBI </a:t>
            </a:r>
            <a:r>
              <a:rPr b="0" lang="en-GB" sz="700" spc="-1" strike="noStrike">
                <a:solidFill>
                  <a:srgbClr val="00cccc"/>
                </a:solidFill>
                <a:latin typeface="Arial"/>
              </a:rPr>
              <a:t>tutorial</a:t>
            </a:r>
            <a:endParaRPr b="0" lang="en-US" sz="7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© Tim Bunce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cccc"/>
                </a:solidFill>
                <a:latin typeface="Arial"/>
              </a:rPr>
              <a:t>July 2000</a:t>
            </a:r>
            <a:endParaRPr b="0" lang="en-US" sz="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592DB-661F-43A3-976F-875BE72A6A8F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680" y="3276720"/>
            <a:ext cx="9899280" cy="152280"/>
            <a:chOff x="4680" y="3276720"/>
            <a:chExt cx="9899280" cy="152280"/>
          </a:xfrm>
        </p:grpSpPr>
        <p:sp>
          <p:nvSpPr>
            <p:cNvPr id="48" name=""/>
            <p:cNvSpPr/>
            <p:nvPr/>
          </p:nvSpPr>
          <p:spPr>
            <a:xfrm>
              <a:off x="4680" y="3276720"/>
              <a:ext cx="989928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cccc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680" y="3390840"/>
              <a:ext cx="9899280" cy="38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ffcc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ff"/>
              </a:buClr>
              <a:buSzPct val="7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hyperlink" Target="http://www.symbolstone.org/technology/perl/DBI" TargetMode="External"/><Relationship Id="rId2" Type="http://schemas.openxmlformats.org/officeDocument/2006/relationships/hyperlink" Target="http://www.isc.org/dbi-lists.html" TargetMode="External"/><Relationship Id="rId3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Arial"/>
              </a:rPr>
              <a:t>Advanced DBI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Perl Conference 4.0 Tutor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July 2000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ff"/>
                </a:solidFill>
                <a:latin typeface="Arial"/>
              </a:rPr>
              <a:t>Tim Bu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best laid pl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7320" y="1980720"/>
            <a:ext cx="94107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Query optimisation is h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ntelligent high quality cost based query optimisation is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really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har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now your optimi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acle, Informix, Sybase, DB2, SQL Server etc. all slightly differen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what it's do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tools to see the plans used for your queries - very helpfu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elp it alo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st 'big name' databases have a mechanism to analyse and store the key distributions of indices to help the optimiser make good pla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important for tables with ‘skewed’ key distribu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keep it fresh, old key distributions might be worse than n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also allow you to embed 'hints' into the SQL as com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-20556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ware: take it easy, over hinting hinders dynamic optimisation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 rot="673200">
            <a:off x="5780160" y="193680"/>
            <a:ext cx="809640" cy="515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26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access</a:t>
            </a:r>
            <a:endParaRPr b="0" lang="en-US" sz="24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48480" y="1143000"/>
            <a:ext cx="247680" cy="241200"/>
          </a:xfrm>
          <a:custGeom>
            <a:avLst/>
            <a:gdLst/>
            <a:ahLst/>
            <a:rect l="l" t="t" r="r" b="b"/>
            <a:pathLst>
              <a:path w="144" h="152">
                <a:moveTo>
                  <a:pt x="0" y="152"/>
                </a:moveTo>
                <a:cubicBezTo>
                  <a:pt x="36" y="84"/>
                  <a:pt x="72" y="16"/>
                  <a:pt x="96" y="8"/>
                </a:cubicBezTo>
                <a:cubicBezTo>
                  <a:pt x="120" y="0"/>
                  <a:pt x="136" y="88"/>
                  <a:pt x="144" y="104"/>
                </a:cubicBezTo>
              </a:path>
            </a:pathLst>
          </a:custGeom>
          <a:noFill/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ySQL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2883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     </a:t>
            </a:r>
            <a:r>
              <a:rPr b="0" lang="en-US" sz="1000" spc="-1" strike="noStrike">
                <a:solidFill>
                  <a:srgbClr val="ffff66"/>
                </a:solidFill>
                <a:latin typeface="Courier New"/>
              </a:rPr>
              <a:t>EXPLAIN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tt.TicketNumber, tt.TimeI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ProjectReference, tt.EstimatedShipDate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ActualShipDate, tt.Client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ServiceCodes, tt.RepetitiveID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CurrentProcess, tt.CurrentDPPerson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.RecordVolume, tt.DPPrinted, et.COUNTRY,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.COUNTRY, do.CUSTNAME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tt, et, et AS et_1, d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tt.SubmitTime IS NUL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ctualPC = et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AssignedPC = et_1.EMPLOYI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tt.ClientID = do.CUSTNMBR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 plan is described as results like this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urier New"/>
              </a:rPr>
              <a:t>TABLE TYPE   POSSIBLE_KEYS                KEY      KEY_LEN REF            ROWS     EXTR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    ALL    PRIMARY                      NULL     NULL    NULL           7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tt    ref    AssignedPC,ClientID,ActualPC ActualPC 15      et.EMPLOYID    52       where u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et_1  eq_ref PRIMARY                      PRIMARY  15      tt.AssignedPC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do    eq_ref PRIMARY                      PRIMARY  15      tt.ClientID    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racle’s EXPLAIN PLA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nerate a pla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66"/>
                </a:solidFill>
                <a:latin typeface="Courier New"/>
              </a:rPr>
              <a:t>EXPLAIN PLAN SET STATEMENT_ID = 'Emp_Sal’ FOR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SELECT ename, job, sal, dnam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FROM emp, dep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deptno = dept.deptno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AND NOT EXIS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(SELECT * FROM salgrad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WHERE emp.sal BETWEEN losal AND hisal)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hat writes plan details into a table which can be queried to yield results like this: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ID  PAR Query Pl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--- --- --------------------------------------------------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0     Select Statement   Cost = 696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1   0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2   1     Nested Loop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3   2       Merge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4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5   4           Table Access Full T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6   3         Sort Jo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7   6           Table Access Full T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8   2       Index Unique Scan T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9   1     Table Access Full T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explain-0_4beta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11887200" cy="857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Changing plans (hint hint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st database systems provide some way to influence the execution plan - typically via ‘hints’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acle supports a very large and complex range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u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contained within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	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+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INDEX(table1 index1) */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foo, ba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FROM table1 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ySQL has a very limited set of hi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spcAft>
                <a:spcPts val="499"/>
              </a:spcAft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nts can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ptionall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 placed inside comments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/*</a:t>
            </a:r>
            <a:r>
              <a:rPr b="1" lang="en-US" sz="20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… *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SELECT foo, bar FROM table1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/*</a:t>
            </a:r>
            <a:r>
              <a:rPr b="1" lang="en-US" sz="1400" spc="-1" strike="noStrike">
                <a:solidFill>
                  <a:srgbClr val="ffff66"/>
                </a:solidFill>
                <a:latin typeface="Courier New"/>
              </a:rPr>
              <a:t>!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USE INDEX (key1,key2) */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WHERE key1=1 AND key2=2 AND key3=3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spect your server's SQL cach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899784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Optimised Access Plan etc. is cached within the 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keyed by the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exa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riginal SQL string 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mpar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$id"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do("insert … ?", undef, $id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99548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ithout placeholders, SQL string varies each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ched one is not reus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ime is wasted creating a new access pla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new statement and access plan are added to cach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the cache fills and other statements get pushed ou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 a busy system this can lead to ‘thrashing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ot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60240" y="1980720"/>
            <a:ext cx="8994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voi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do(…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 a speed-critical loop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execut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tea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gets a handle on the statement in the SQL cache and keeps it the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ing the handle for the pre-prepared statement avoids a round-trip to server for SQL cache-check / parsing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example, convert loop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o("insert … ?", undef, 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("insert … ?"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loope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xecute($i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often gives a significant performance boo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ummary (so far)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nk about the big picture fir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titioning, choice of tools et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udy and tune the access plans for your stat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ach your database about your key distribu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placehol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pecially for any statements that vary and will be executed of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ac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o(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in a l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before the loop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execute(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within 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ually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 drivers don’t support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ometimes queries using placeholders are slow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access plan has to be more genera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Let the DBI cache your handl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ometimes it's not easy to hold all you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.g., library code to lookup values from the databa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prepare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 gives you a client side statement handle cach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dbh, 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prepare_cached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</a:t>
            </a:r>
            <a:r>
              <a:rPr b="0" lang="en-GB" sz="1600" spc="-1" strike="noStrike">
                <a:solidFill>
                  <a:srgbClr val="ffff66"/>
                </a:solidFill>
                <a:latin typeface="Courier New"/>
              </a:rPr>
              <a:t>selectrow_array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avoid the need for global statement handle vari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nother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prepare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y for dynamically constructed statement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while ( ($field, $value) = each %search_fields 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sql,   "$field = ?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push @values, $value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"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where = "where ".join(" and ", @sql) if @sql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* from table $where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-&gt;execute(@values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opical Topic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Speed Speed Speed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and Error Handl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eels within Whe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ansa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 for the We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ndling LONG/BLOB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Power of the Prox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lexing the 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Keep a handle on your databas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necting to a database can be s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y to connect once and stay connected where practic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e'll discuss web server issues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connect_cached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metho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cts 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ut for database hand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t also checks the connection and reconnects if it's brok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k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, it’s most handy for library co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milar, but not quite the same as Apache::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ew and subject to change with experien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ly most useful with DBD::Proxy &amp; DBI::Proxy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s well combined with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prepare_cached(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</a:t>
            </a:r>
            <a:r>
              <a:rPr b="0" lang="en-GB" sz="4000" spc="-1" strike="noStrike">
                <a:solidFill>
                  <a:srgbClr val="00cccc"/>
                </a:solidFill>
                <a:latin typeface="Courier New"/>
              </a:rPr>
              <a:t>connect_cached()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examp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mpare and contrast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1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wi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sub lookup_foo2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($id) = @_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my $dbh = DBI-&gt;connect_cached(…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sth = $dbh-&gt;prepare_cached("select foo from table where 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return $dbh-&gt;selectrow_array($sth, $id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Sling less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@row = $sth-&gt;fetchrow_array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3,1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1,0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while($row = $sth-&gt;fetchrow_arrayref) {  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e field:   5,300 fetches per cpu secon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 fields:  4,000 fetches per cpu second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e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made on an old SPARC 10 using DBD::Orac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imings assume instant record fetch within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elds all just one char.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@row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would be even slower for more/bigger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s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bind_columns()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or direc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access to fetched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&amp; Error Handl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err is human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etect, divin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importance of error check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rrors happen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ilure happens when you don't expect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 crash / network dis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ack of disk space for insert or select (sort space for order by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rver math error on select (divide by zero after 10,000 row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maybe, just maybe, errors in your own code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Gasp!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eat failure by expecting errors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etect errors early to limit effec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efensive Programming, e.g., check assum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rough Programming, e.g., check for errors after fetch loo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rror checking - ways and mea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hard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 || die "DBI method failed: $DBI::errstr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rror checking the smart way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method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ett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ke the DBI call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i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for yo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simple applications immediate death on error is fin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error message is usually accurate and detailed enoug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Better than the error messages some developers use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more advanced applications greater control is needed, perhap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rrect the problem and ret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Fail that chunk of work and move on to anoth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Log error and clean up before a graceful ex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r, whatever else to need to d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uzzwords: Need to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catc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 error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exceptio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eing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rown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by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errors the smart wa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Life after deat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{RaiseError} = 1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foo(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h-&gt;method;  # fails so the DBI calls d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bar($h);     # may also call DBI method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... handle the error here 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Bonus priz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ther, non-DBI, code within the eval block may also raise an exception that will be caught and handled clea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heels within Whee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e DBI architectu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and how to watch it at 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Setting the scen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worl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pplication and Driv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ner and outer hand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handles are references to tied hash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DBI Method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ateway between the worlds and the heart of the 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ow we'll go all deep and visual for a whil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hat’s it all abou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1789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defines and implements an interface to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ug-in driver modules do the database-specific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provides default methods, functions, tools etc  for dri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limited to the lowest common denomin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igned and built for spe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werful automatic error check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uable detailed call tracing/debugg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11812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15836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5283360" y="3876480"/>
            <a:ext cx="3631320" cy="1219320"/>
            <a:chOff x="5283360" y="3876480"/>
            <a:chExt cx="3631320" cy="1219320"/>
          </a:xfrm>
        </p:grpSpPr>
        <p:sp>
          <p:nvSpPr>
            <p:cNvPr id="194" name=""/>
            <p:cNvSpPr/>
            <p:nvPr/>
          </p:nvSpPr>
          <p:spPr>
            <a:xfrm>
              <a:off x="52833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407920" y="464832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5214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647760" y="464832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75944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883280" y="464832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00" name=""/>
            <p:cNvCxnSpPr>
              <a:stCxn id="194" idx="0"/>
              <a:endCxn id="201" idx="2"/>
            </p:cNvCxnSpPr>
            <p:nvPr/>
          </p:nvCxnSpPr>
          <p:spPr>
            <a:xfrm flipV="1">
              <a:off x="586044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2" name=""/>
            <p:cNvCxnSpPr>
              <a:stCxn id="196" idx="0"/>
              <a:endCxn id="203" idx="2"/>
            </p:cNvCxnSpPr>
            <p:nvPr/>
          </p:nvCxnSpPr>
          <p:spPr>
            <a:xfrm flipV="1">
              <a:off x="70984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04" name=""/>
            <p:cNvCxnSpPr>
              <a:stCxn id="198" idx="0"/>
              <a:endCxn id="205" idx="2"/>
            </p:cNvCxnSpPr>
            <p:nvPr/>
          </p:nvCxnSpPr>
          <p:spPr>
            <a:xfrm flipV="1">
              <a:off x="8336880" y="3876480"/>
              <a:ext cx="248040" cy="69552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</p:grpSp>
      <p:sp>
        <p:nvSpPr>
          <p:cNvPr id="206" name=""/>
          <p:cNvSpPr/>
          <p:nvPr/>
        </p:nvSpPr>
        <p:spPr>
          <a:xfrm flipH="1">
            <a:off x="4209840" y="2057400"/>
            <a:ext cx="74268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47680" y="38098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79080" y="3886200"/>
            <a:ext cx="47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1073160" y="4572000"/>
            <a:ext cx="1155240" cy="523800"/>
            <a:chOff x="1073160" y="4572000"/>
            <a:chExt cx="1155240" cy="523800"/>
          </a:xfrm>
        </p:grpSpPr>
        <p:sp>
          <p:nvSpPr>
            <p:cNvPr id="210" name=""/>
            <p:cNvSpPr/>
            <p:nvPr/>
          </p:nvSpPr>
          <p:spPr>
            <a:xfrm>
              <a:off x="10731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199520" y="4647960"/>
              <a:ext cx="736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2311560" y="4572000"/>
            <a:ext cx="1155240" cy="523800"/>
            <a:chOff x="2311560" y="4572000"/>
            <a:chExt cx="1155240" cy="523800"/>
          </a:xfrm>
        </p:grpSpPr>
        <p:sp>
          <p:nvSpPr>
            <p:cNvPr id="213" name=""/>
            <p:cNvSpPr/>
            <p:nvPr/>
          </p:nvSpPr>
          <p:spPr>
            <a:xfrm>
              <a:off x="231156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439360" y="4647960"/>
              <a:ext cx="77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3549600" y="4572000"/>
            <a:ext cx="1155240" cy="523800"/>
            <a:chOff x="3549600" y="4572000"/>
            <a:chExt cx="1155240" cy="523800"/>
          </a:xfrm>
        </p:grpSpPr>
        <p:sp>
          <p:nvSpPr>
            <p:cNvPr id="216" name=""/>
            <p:cNvSpPr/>
            <p:nvPr/>
          </p:nvSpPr>
          <p:spPr>
            <a:xfrm>
              <a:off x="3549600" y="4572000"/>
              <a:ext cx="1155240" cy="52380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74160" y="4647960"/>
              <a:ext cx="71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>
            <a:off x="1124280" y="5334120"/>
            <a:ext cx="3501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 handle classes visible to applications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se classes are effectively ‘empty’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5394240" y="3876480"/>
            <a:ext cx="4471560" cy="2526480"/>
            <a:chOff x="5394240" y="3876480"/>
            <a:chExt cx="4471560" cy="2526480"/>
          </a:xfrm>
        </p:grpSpPr>
        <p:sp>
          <p:nvSpPr>
            <p:cNvPr id="220" name=""/>
            <p:cNvSpPr/>
            <p:nvPr/>
          </p:nvSpPr>
          <p:spPr>
            <a:xfrm>
              <a:off x="623376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15480" y="5410080"/>
              <a:ext cx="1034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4718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56040" y="5410080"/>
              <a:ext cx="107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710200" y="5334120"/>
              <a:ext cx="1155600" cy="52380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790840" y="5410080"/>
              <a:ext cx="101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DBD::B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26" name=""/>
            <p:cNvCxnSpPr>
              <a:stCxn id="220" idx="0"/>
              <a:endCxn id="201" idx="2"/>
            </p:cNvCxnSpPr>
            <p:nvPr/>
          </p:nvCxnSpPr>
          <p:spPr>
            <a:xfrm flipH="1" flipV="1">
              <a:off x="610776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7" name=""/>
            <p:cNvCxnSpPr>
              <a:stCxn id="222" idx="0"/>
              <a:endCxn id="203" idx="2"/>
            </p:cNvCxnSpPr>
            <p:nvPr/>
          </p:nvCxnSpPr>
          <p:spPr>
            <a:xfrm flipH="1" flipV="1">
              <a:off x="73458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cxnSp>
          <p:nvCxnSpPr>
            <p:cNvPr id="228" name=""/>
            <p:cNvCxnSpPr>
              <a:stCxn id="224" idx="0"/>
              <a:endCxn id="205" idx="2"/>
            </p:cNvCxnSpPr>
            <p:nvPr/>
          </p:nvCxnSpPr>
          <p:spPr>
            <a:xfrm flipH="1" flipV="1">
              <a:off x="8584200" y="3876480"/>
              <a:ext cx="704160" cy="14580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dash"/>
              <a:miter/>
              <a:tailEnd len="med" type="arrow" w="med"/>
            </a:ln>
          </p:spPr>
        </p:cxnSp>
        <p:sp>
          <p:nvSpPr>
            <p:cNvPr id="229" name=""/>
            <p:cNvSpPr/>
            <p:nvPr/>
          </p:nvSpPr>
          <p:spPr>
            <a:xfrm>
              <a:off x="5394240" y="6095880"/>
              <a:ext cx="395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arallel handle classes implemented by drivers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5283360" y="1752480"/>
            <a:ext cx="4568400" cy="2124360"/>
            <a:chOff x="5283360" y="1752480"/>
            <a:chExt cx="4568400" cy="2124360"/>
          </a:xfrm>
        </p:grpSpPr>
        <p:grpSp>
          <p:nvGrpSpPr>
            <p:cNvPr id="231" name=""/>
            <p:cNvGrpSpPr/>
            <p:nvPr/>
          </p:nvGrpSpPr>
          <p:grpSpPr>
            <a:xfrm>
              <a:off x="6108120" y="2133720"/>
              <a:ext cx="2476080" cy="1218600"/>
              <a:chOff x="6108120" y="2133720"/>
              <a:chExt cx="2476080" cy="1218600"/>
            </a:xfrm>
          </p:grpSpPr>
          <p:sp>
            <p:nvSpPr>
              <p:cNvPr id="232" name=""/>
              <p:cNvSpPr/>
              <p:nvPr/>
            </p:nvSpPr>
            <p:spPr>
              <a:xfrm>
                <a:off x="6583320" y="2209680"/>
                <a:ext cx="1538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DBD::_::common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6438600" y="2133720"/>
                <a:ext cx="1733400" cy="523800"/>
              </a:xfrm>
              <a:prstGeom prst="rect">
                <a:avLst/>
              </a:prstGeom>
              <a:noFill/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cxnSp>
            <p:nvCxnSpPr>
              <p:cNvPr id="234" name=""/>
              <p:cNvCxnSpPr>
                <a:stCxn id="201" idx="0"/>
                <a:endCxn id="233" idx="2"/>
              </p:cNvCxnSpPr>
              <p:nvPr/>
            </p:nvCxnSpPr>
            <p:spPr>
              <a:xfrm flipV="1">
                <a:off x="6108120" y="2657160"/>
                <a:ext cx="119736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5" name=""/>
              <p:cNvCxnSpPr>
                <a:stCxn id="203" idx="0"/>
                <a:endCxn id="233" idx="2"/>
              </p:cNvCxnSpPr>
              <p:nvPr/>
            </p:nvCxnSpPr>
            <p:spPr>
              <a:xfrm flipH="1" flipV="1">
                <a:off x="7304760" y="2657160"/>
                <a:ext cx="414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  <p:cxnSp>
            <p:nvCxnSpPr>
              <p:cNvPr id="236" name=""/>
              <p:cNvCxnSpPr>
                <a:stCxn id="205" idx="0"/>
                <a:endCxn id="233" idx="2"/>
              </p:cNvCxnSpPr>
              <p:nvPr/>
            </p:nvCxnSpPr>
            <p:spPr>
              <a:xfrm flipH="1" flipV="1">
                <a:off x="7304760" y="2657160"/>
                <a:ext cx="1279800" cy="69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dash"/>
                <a:miter/>
                <a:tailEnd len="med" type="arrow" w="med"/>
              </a:ln>
            </p:spPr>
          </p:cxnSp>
        </p:grpSp>
        <p:grpSp>
          <p:nvGrpSpPr>
            <p:cNvPr id="237" name=""/>
            <p:cNvGrpSpPr/>
            <p:nvPr/>
          </p:nvGrpSpPr>
          <p:grpSpPr>
            <a:xfrm>
              <a:off x="5283360" y="1752480"/>
              <a:ext cx="3880080" cy="2124360"/>
              <a:chOff x="5283360" y="1752480"/>
              <a:chExt cx="3880080" cy="2124360"/>
            </a:xfrm>
          </p:grpSpPr>
          <p:grpSp>
            <p:nvGrpSpPr>
              <p:cNvPr id="238" name=""/>
              <p:cNvGrpSpPr/>
              <p:nvPr/>
            </p:nvGrpSpPr>
            <p:grpSpPr>
              <a:xfrm>
                <a:off x="5530680" y="3352680"/>
                <a:ext cx="1154880" cy="524160"/>
                <a:chOff x="5530680" y="3352680"/>
                <a:chExt cx="1154880" cy="524160"/>
              </a:xfrm>
            </p:grpSpPr>
            <p:sp>
              <p:nvSpPr>
                <p:cNvPr id="201" name=""/>
                <p:cNvSpPr/>
                <p:nvPr/>
              </p:nvSpPr>
              <p:spPr>
                <a:xfrm>
                  <a:off x="5530680" y="3352680"/>
                  <a:ext cx="115488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5667480" y="3429000"/>
                  <a:ext cx="1014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r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6769080" y="3352680"/>
                <a:ext cx="1192680" cy="524160"/>
                <a:chOff x="6769080" y="3352680"/>
                <a:chExt cx="1192680" cy="52416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6769080" y="3352680"/>
                  <a:ext cx="115596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6907680" y="3429000"/>
                  <a:ext cx="1054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db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8007120" y="3352680"/>
                <a:ext cx="1156320" cy="524160"/>
                <a:chOff x="8007120" y="3352680"/>
                <a:chExt cx="1156320" cy="52416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8007120" y="3352680"/>
                  <a:ext cx="1156320" cy="524160"/>
                </a:xfrm>
                <a:prstGeom prst="rect">
                  <a:avLst/>
                </a:prstGeom>
                <a:noFill/>
                <a:ln w="1260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"/>
                <p:cNvSpPr/>
                <p:nvPr/>
              </p:nvSpPr>
              <p:spPr>
                <a:xfrm>
                  <a:off x="8143560" y="3429000"/>
                  <a:ext cx="9961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DBD::_::st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"/>
              <p:cNvSpPr/>
              <p:nvPr/>
            </p:nvSpPr>
            <p:spPr>
              <a:xfrm>
                <a:off x="5314320" y="1752480"/>
                <a:ext cx="7354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inn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5283360" y="2057400"/>
                <a:ext cx="74268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6" name=""/>
            <p:cNvSpPr/>
            <p:nvPr/>
          </p:nvSpPr>
          <p:spPr>
            <a:xfrm>
              <a:off x="8616600" y="2068560"/>
              <a:ext cx="1235160" cy="94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ase classe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providing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fallbac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behavior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rchitecture of the DBI classes #2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4044240" y="1752480"/>
            <a:ext cx="1899360" cy="4193280"/>
            <a:chOff x="4044240" y="1752480"/>
            <a:chExt cx="1899360" cy="4193280"/>
          </a:xfrm>
        </p:grpSpPr>
        <p:cxnSp>
          <p:nvCxnSpPr>
            <p:cNvPr id="249" name=""/>
            <p:cNvCxnSpPr>
              <a:stCxn id="250" idx="1"/>
              <a:endCxn id="251" idx="3"/>
            </p:cNvCxnSpPr>
            <p:nvPr/>
          </p:nvCxnSpPr>
          <p:spPr>
            <a:xfrm flipH="1">
              <a:off x="4050720" y="2361960"/>
              <a:ext cx="81972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2" name=""/>
            <p:cNvCxnSpPr/>
            <p:nvPr/>
          </p:nvCxnSpPr>
          <p:spPr>
            <a:xfrm flipV="1">
              <a:off x="4051080" y="3276000"/>
              <a:ext cx="8197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3" name=""/>
            <p:cNvCxnSpPr/>
            <p:nvPr/>
          </p:nvCxnSpPr>
          <p:spPr>
            <a:xfrm flipV="1">
              <a:off x="4051080" y="2601360"/>
              <a:ext cx="802440" cy="12848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4" name=""/>
            <p:cNvCxnSpPr>
              <a:stCxn id="251" idx="3"/>
              <a:endCxn id="255" idx="1"/>
            </p:cNvCxnSpPr>
            <p:nvPr/>
          </p:nvCxnSpPr>
          <p:spPr>
            <a:xfrm flipV="1">
              <a:off x="4051080" y="2818800"/>
              <a:ext cx="81972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6" name=""/>
            <p:cNvCxnSpPr>
              <a:stCxn id="251" idx="3"/>
              <a:endCxn id="257" idx="1"/>
            </p:cNvCxnSpPr>
            <p:nvPr/>
          </p:nvCxnSpPr>
          <p:spPr>
            <a:xfrm flipV="1">
              <a:off x="4051080" y="3058560"/>
              <a:ext cx="802440" cy="8276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58" name=""/>
            <p:cNvCxnSpPr>
              <a:stCxn id="251" idx="3"/>
              <a:endCxn id="259" idx="1"/>
            </p:cNvCxnSpPr>
            <p:nvPr/>
          </p:nvCxnSpPr>
          <p:spPr>
            <a:xfrm flipV="1">
              <a:off x="4051080" y="2144160"/>
              <a:ext cx="802440" cy="174204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59" name=""/>
            <p:cNvSpPr/>
            <p:nvPr/>
          </p:nvSpPr>
          <p:spPr>
            <a:xfrm>
              <a:off x="4852800" y="19922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870080" y="22096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2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870080" y="26668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852800" y="290664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/>
            <p:nvPr/>
          </p:nvCxnSpPr>
          <p:spPr>
            <a:xfrm flipH="1" flipV="1">
              <a:off x="4044240" y="3961800"/>
              <a:ext cx="82620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1" name=""/>
            <p:cNvCxnSpPr/>
            <p:nvPr/>
          </p:nvCxnSpPr>
          <p:spPr>
            <a:xfrm>
              <a:off x="4044600" y="3962160"/>
              <a:ext cx="826200" cy="15246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2" name=""/>
            <p:cNvCxnSpPr>
              <a:stCxn id="263" idx="0"/>
              <a:endCxn id="264" idx="1"/>
            </p:cNvCxnSpPr>
            <p:nvPr/>
          </p:nvCxnSpPr>
          <p:spPr>
            <a:xfrm>
              <a:off x="4044600" y="3962160"/>
              <a:ext cx="808920" cy="8499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5" name=""/>
            <p:cNvCxnSpPr>
              <a:stCxn id="263" idx="1"/>
              <a:endCxn id="266" idx="1"/>
            </p:cNvCxnSpPr>
            <p:nvPr/>
          </p:nvCxnSpPr>
          <p:spPr>
            <a:xfrm>
              <a:off x="4044600" y="3962160"/>
              <a:ext cx="826200" cy="106740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7" name=""/>
            <p:cNvCxnSpPr/>
            <p:nvPr/>
          </p:nvCxnSpPr>
          <p:spPr>
            <a:xfrm>
              <a:off x="4044600" y="3962160"/>
              <a:ext cx="808920" cy="13071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cxnSp>
          <p:nvCxnSpPr>
            <p:cNvPr id="268" name=""/>
            <p:cNvCxnSpPr>
              <a:stCxn id="263" idx="1"/>
              <a:endCxn id="269" idx="1"/>
            </p:cNvCxnSpPr>
            <p:nvPr/>
          </p:nvCxnSpPr>
          <p:spPr>
            <a:xfrm>
              <a:off x="4044600" y="3962160"/>
              <a:ext cx="808920" cy="392760"/>
            </a:xfrm>
            <a:prstGeom prst="straightConnector1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</p:cxnSp>
        <p:sp>
          <p:nvSpPr>
            <p:cNvPr id="269" name=""/>
            <p:cNvSpPr/>
            <p:nvPr/>
          </p:nvSpPr>
          <p:spPr>
            <a:xfrm>
              <a:off x="4852800" y="4202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1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852800" y="46594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3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870080" y="487692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ccff"/>
                  </a:solidFill>
                  <a:latin typeface="Arial"/>
                </a:rPr>
                <a:t>method4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540320" y="1752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4540320" y="4038480"/>
              <a:ext cx="1403280" cy="1905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541400" y="17524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41400" y="5638680"/>
              <a:ext cx="114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ff"/>
                  </a:solidFill>
                  <a:latin typeface="Arial"/>
                </a:rPr>
                <a:t>DBD::B::db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952880" y="25909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952880" y="45720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952880" y="52578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952880" y="327672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952880" y="5486400"/>
              <a:ext cx="660600" cy="0"/>
            </a:xfrm>
            <a:prstGeom prst="line">
              <a:avLst/>
            </a:prstGeom>
            <a:ln cap="rnd" w="1260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165240" y="6858000"/>
            <a:ext cx="1320840" cy="0"/>
          </a:xfrm>
          <a:prstGeom prst="line">
            <a:avLst/>
          </a:prstGeom>
          <a:ln w="19080">
            <a:solidFill>
              <a:srgbClr val="0032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0" name=""/>
          <p:cNvGrpSpPr/>
          <p:nvPr/>
        </p:nvGrpSpPr>
        <p:grpSpPr>
          <a:xfrm>
            <a:off x="1486080" y="6095880"/>
            <a:ext cx="6190920" cy="764280"/>
            <a:chOff x="1486080" y="6095880"/>
            <a:chExt cx="6190920" cy="764280"/>
          </a:xfrm>
        </p:grpSpPr>
        <p:sp>
          <p:nvSpPr>
            <p:cNvPr id="281" name=""/>
            <p:cNvSpPr/>
            <p:nvPr/>
          </p:nvSpPr>
          <p:spPr>
            <a:xfrm>
              <a:off x="4457880" y="6095880"/>
              <a:ext cx="321912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40320" y="6248520"/>
              <a:ext cx="1403280" cy="60948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41040" y="6248520"/>
              <a:ext cx="108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33"/>
                  </a:solidFill>
                  <a:latin typeface="Arial"/>
                </a:rPr>
                <a:t>DBD::A::s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540320" y="6858000"/>
              <a:ext cx="1403280" cy="0"/>
            </a:xfrm>
            <a:prstGeom prst="line">
              <a:avLst/>
            </a:prstGeom>
            <a:ln w="19080">
              <a:solidFill>
                <a:srgbClr val="0032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852800" y="6488280"/>
              <a:ext cx="87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9933"/>
                  </a:solidFill>
                  <a:latin typeface="Arial"/>
                </a:rPr>
                <a:t>method7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86" name=""/>
            <p:cNvGrpSpPr/>
            <p:nvPr/>
          </p:nvGrpSpPr>
          <p:grpSpPr>
            <a:xfrm>
              <a:off x="1486080" y="6248520"/>
              <a:ext cx="1567800" cy="611640"/>
              <a:chOff x="1486080" y="6248520"/>
              <a:chExt cx="1567800" cy="611640"/>
            </a:xfrm>
          </p:grpSpPr>
          <p:sp>
            <p:nvSpPr>
              <p:cNvPr id="287" name=""/>
              <p:cNvSpPr/>
              <p:nvPr/>
            </p:nvSpPr>
            <p:spPr>
              <a:xfrm>
                <a:off x="2063520" y="655308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7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1981080" y="6248520"/>
                <a:ext cx="1072800" cy="60948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981080" y="6248520"/>
                <a:ext cx="764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st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486080" y="670572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1981080" y="6858000"/>
                <a:ext cx="1072800" cy="0"/>
              </a:xfrm>
              <a:prstGeom prst="line">
                <a:avLst/>
              </a:prstGeom>
              <a:ln w="19080">
                <a:solidFill>
                  <a:srgbClr val="0032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2" name=""/>
          <p:cNvGrpSpPr/>
          <p:nvPr/>
        </p:nvGrpSpPr>
        <p:grpSpPr>
          <a:xfrm>
            <a:off x="165240" y="1676520"/>
            <a:ext cx="3335400" cy="5181480"/>
            <a:chOff x="165240" y="1676520"/>
            <a:chExt cx="3335400" cy="5181480"/>
          </a:xfrm>
        </p:grpSpPr>
        <p:sp>
          <p:nvSpPr>
            <p:cNvPr id="293" name=""/>
            <p:cNvSpPr/>
            <p:nvPr/>
          </p:nvSpPr>
          <p:spPr>
            <a:xfrm>
              <a:off x="165240" y="1752480"/>
              <a:ext cx="1320480" cy="51055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kes call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o method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sing DBI hand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bjects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94" name=""/>
            <p:cNvGrpSpPr/>
            <p:nvPr/>
          </p:nvGrpSpPr>
          <p:grpSpPr>
            <a:xfrm>
              <a:off x="1485720" y="2895480"/>
              <a:ext cx="1650240" cy="1981440"/>
              <a:chOff x="1485720" y="2895480"/>
              <a:chExt cx="1650240" cy="1981440"/>
            </a:xfrm>
          </p:grpSpPr>
          <p:cxnSp>
            <p:nvCxnSpPr>
              <p:cNvPr id="295" name=""/>
              <p:cNvCxnSpPr>
                <a:stCxn id="296" idx="3"/>
                <a:endCxn id="251" idx="1"/>
              </p:cNvCxnSpPr>
              <p:nvPr/>
            </p:nvCxnSpPr>
            <p:spPr>
              <a:xfrm>
                <a:off x="2903760" y="3363480"/>
                <a:ext cx="232560" cy="5230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7" name=""/>
              <p:cNvCxnSpPr>
                <a:stCxn id="251" idx="1"/>
                <a:endCxn id="298" idx="3"/>
              </p:cNvCxnSpPr>
              <p:nvPr/>
            </p:nvCxnSpPr>
            <p:spPr>
              <a:xfrm flipH="1" flipV="1">
                <a:off x="2903400" y="3820680"/>
                <a:ext cx="232560" cy="6552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299" name=""/>
              <p:cNvCxnSpPr>
                <a:stCxn id="251" idx="1"/>
                <a:endCxn id="300" idx="3"/>
              </p:cNvCxnSpPr>
              <p:nvPr/>
            </p:nvCxnSpPr>
            <p:spPr>
              <a:xfrm flipH="1">
                <a:off x="2901960" y="3885840"/>
                <a:ext cx="234000" cy="153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1" name=""/>
              <p:cNvCxnSpPr>
                <a:stCxn id="251" idx="1"/>
                <a:endCxn id="302" idx="3"/>
              </p:cNvCxnSpPr>
              <p:nvPr/>
            </p:nvCxnSpPr>
            <p:spPr>
              <a:xfrm flipH="1">
                <a:off x="2903400" y="3885840"/>
                <a:ext cx="232560" cy="3927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3" name=""/>
              <p:cNvCxnSpPr>
                <a:stCxn id="251" idx="1"/>
                <a:endCxn id="304" idx="3"/>
              </p:cNvCxnSpPr>
              <p:nvPr/>
            </p:nvCxnSpPr>
            <p:spPr>
              <a:xfrm flipH="1">
                <a:off x="2901960" y="3885840"/>
                <a:ext cx="234000" cy="6102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05" name=""/>
              <p:cNvCxnSpPr>
                <a:stCxn id="251" idx="1"/>
                <a:endCxn id="306" idx="3"/>
              </p:cNvCxnSpPr>
              <p:nvPr/>
            </p:nvCxnSpPr>
            <p:spPr>
              <a:xfrm flipH="1" flipV="1">
                <a:off x="2901960" y="3580560"/>
                <a:ext cx="234000" cy="3056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sp>
            <p:nvSpPr>
              <p:cNvPr id="296" name=""/>
              <p:cNvSpPr/>
              <p:nvPr/>
            </p:nvSpPr>
            <p:spPr>
              <a:xfrm>
                <a:off x="2064600" y="32115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1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062800" y="34290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2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064600" y="36687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3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062800" y="38862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4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2064600" y="412596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5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2062800" y="4343400"/>
                <a:ext cx="874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method6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980720" y="2895480"/>
                <a:ext cx="1072800" cy="1981440"/>
              </a:xfrm>
              <a:prstGeom prst="rect">
                <a:avLst/>
              </a:prstGeom>
              <a:noFill/>
              <a:ln cap="rnd" w="12600">
                <a:solidFill>
                  <a:srgbClr val="ffff66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015640" y="2895480"/>
                <a:ext cx="822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66"/>
                    </a:solidFill>
                    <a:latin typeface="Arial"/>
                  </a:rPr>
                  <a:t>DBI::db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485720" y="3352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485720" y="35812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485720" y="38098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485720" y="40384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1485720" y="42670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1485720" y="4495680"/>
                <a:ext cx="4122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2754720" y="1676520"/>
              <a:ext cx="745920" cy="307080"/>
              <a:chOff x="2754720" y="1676520"/>
              <a:chExt cx="745920" cy="307080"/>
            </a:xfrm>
          </p:grpSpPr>
          <p:sp>
            <p:nvSpPr>
              <p:cNvPr id="316" name=""/>
              <p:cNvSpPr/>
              <p:nvPr/>
            </p:nvSpPr>
            <p:spPr>
              <a:xfrm>
                <a:off x="2754720" y="1676520"/>
                <a:ext cx="7459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‘’</a:t>
                </a: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outer’’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 flipH="1">
                <a:off x="2805480" y="1981080"/>
                <a:ext cx="660600" cy="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18" name=""/>
          <p:cNvGrpSpPr/>
          <p:nvPr/>
        </p:nvGrpSpPr>
        <p:grpSpPr>
          <a:xfrm>
            <a:off x="3170520" y="1676520"/>
            <a:ext cx="873720" cy="5181480"/>
            <a:chOff x="3170520" y="1676520"/>
            <a:chExt cx="873720" cy="5181480"/>
          </a:xfrm>
        </p:grpSpPr>
        <p:grpSp>
          <p:nvGrpSpPr>
            <p:cNvPr id="319" name=""/>
            <p:cNvGrpSpPr/>
            <p:nvPr/>
          </p:nvGrpSpPr>
          <p:grpSpPr>
            <a:xfrm>
              <a:off x="3170520" y="3505320"/>
              <a:ext cx="873720" cy="535680"/>
              <a:chOff x="3170520" y="3505320"/>
              <a:chExt cx="873720" cy="535680"/>
            </a:xfrm>
          </p:grpSpPr>
          <p:sp>
            <p:nvSpPr>
              <p:cNvPr id="251" name=""/>
              <p:cNvSpPr/>
              <p:nvPr/>
            </p:nvSpPr>
            <p:spPr>
              <a:xfrm>
                <a:off x="3170520" y="3733920"/>
                <a:ext cx="84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ispatch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044240" y="3962520"/>
                <a:ext cx="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322800" y="350532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66"/>
                    </a:solidFill>
                    <a:latin typeface="Arial"/>
                  </a:rPr>
                  <a:t>DBI</a:t>
                </a:r>
                <a:endParaRPr b="0" lang="en-US" sz="1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322" name=""/>
            <p:cNvSpPr/>
            <p:nvPr/>
          </p:nvSpPr>
          <p:spPr>
            <a:xfrm>
              <a:off x="3549600" y="1676520"/>
              <a:ext cx="0" cy="175248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549600" y="4114800"/>
              <a:ext cx="0" cy="2743200"/>
            </a:xfrm>
            <a:prstGeom prst="line">
              <a:avLst/>
            </a:prstGeom>
            <a:ln cap="rnd" w="12600">
              <a:solidFill>
                <a:srgbClr val="00cccc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580560" y="1676520"/>
            <a:ext cx="5929560" cy="5181480"/>
            <a:chOff x="3580560" y="1676520"/>
            <a:chExt cx="5929560" cy="5181480"/>
          </a:xfrm>
        </p:grpSpPr>
        <p:grpSp>
          <p:nvGrpSpPr>
            <p:cNvPr id="325" name=""/>
            <p:cNvGrpSpPr/>
            <p:nvPr/>
          </p:nvGrpSpPr>
          <p:grpSpPr>
            <a:xfrm>
              <a:off x="5613120" y="2590560"/>
              <a:ext cx="1032480" cy="2895480"/>
              <a:chOff x="5613120" y="2590560"/>
              <a:chExt cx="1032480" cy="2895480"/>
            </a:xfrm>
          </p:grpSpPr>
          <p:cxnSp>
            <p:nvCxnSpPr>
              <p:cNvPr id="326" name=""/>
              <p:cNvCxnSpPr>
                <a:stCxn id="275" idx="0"/>
                <a:endCxn id="327" idx="1"/>
              </p:cNvCxnSpPr>
              <p:nvPr/>
            </p:nvCxnSpPr>
            <p:spPr>
              <a:xfrm flipV="1">
                <a:off x="5613120" y="3580920"/>
                <a:ext cx="991080" cy="9914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28" name=""/>
              <p:cNvCxnSpPr>
                <a:stCxn id="276" idx="0"/>
                <a:endCxn id="329" idx="1"/>
              </p:cNvCxnSpPr>
              <p:nvPr/>
            </p:nvCxnSpPr>
            <p:spPr>
              <a:xfrm flipV="1">
                <a:off x="5613480" y="4277520"/>
                <a:ext cx="992880" cy="98028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0" name=""/>
              <p:cNvCxnSpPr>
                <a:stCxn id="274" idx="0"/>
                <a:endCxn id="331" idx="1"/>
              </p:cNvCxnSpPr>
              <p:nvPr/>
            </p:nvCxnSpPr>
            <p:spPr>
              <a:xfrm>
                <a:off x="5613480" y="2590560"/>
                <a:ext cx="992880" cy="123084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2" name=""/>
              <p:cNvCxnSpPr>
                <a:stCxn id="278" idx="0"/>
              </p:cNvCxnSpPr>
              <p:nvPr/>
            </p:nvCxnSpPr>
            <p:spPr>
              <a:xfrm flipV="1">
                <a:off x="5613480" y="4582440"/>
                <a:ext cx="992880" cy="90396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  <p:cxnSp>
            <p:nvCxnSpPr>
              <p:cNvPr id="333" name=""/>
              <p:cNvCxnSpPr>
                <a:stCxn id="277" idx="0"/>
              </p:cNvCxnSpPr>
              <p:nvPr/>
            </p:nvCxnSpPr>
            <p:spPr>
              <a:xfrm>
                <a:off x="5613480" y="3276720"/>
                <a:ext cx="1032480" cy="1296000"/>
              </a:xfrm>
              <a:prstGeom prst="straightConnector1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</p:cxnSp>
        </p:grpSp>
        <p:grpSp>
          <p:nvGrpSpPr>
            <p:cNvPr id="334" name=""/>
            <p:cNvGrpSpPr/>
            <p:nvPr/>
          </p:nvGrpSpPr>
          <p:grpSpPr>
            <a:xfrm>
              <a:off x="3580560" y="1676520"/>
              <a:ext cx="5929560" cy="5181480"/>
              <a:chOff x="3580560" y="1676520"/>
              <a:chExt cx="5929560" cy="518148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6273720" y="2971800"/>
                <a:ext cx="3236400" cy="3886200"/>
                <a:chOff x="6273720" y="2971800"/>
                <a:chExt cx="3236400" cy="388620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6273720" y="2971800"/>
                  <a:ext cx="2062800" cy="3505680"/>
                  <a:chOff x="6273720" y="2971800"/>
                  <a:chExt cx="2062800" cy="3505680"/>
                </a:xfrm>
              </p:grpSpPr>
              <p:grpSp>
                <p:nvGrpSpPr>
                  <p:cNvPr id="337" name=""/>
                  <p:cNvGrpSpPr/>
                  <p:nvPr/>
                </p:nvGrpSpPr>
                <p:grpSpPr>
                  <a:xfrm>
                    <a:off x="6273720" y="2971800"/>
                    <a:ext cx="1402560" cy="1905120"/>
                    <a:chOff x="6273720" y="2971800"/>
                    <a:chExt cx="1402560" cy="1905120"/>
                  </a:xfrm>
                </p:grpSpPr>
                <p:sp>
                  <p:nvSpPr>
                    <p:cNvPr id="338" name=""/>
                    <p:cNvSpPr/>
                    <p:nvPr/>
                  </p:nvSpPr>
                  <p:spPr>
                    <a:xfrm>
                      <a:off x="6273720" y="2971800"/>
                      <a:ext cx="1402560" cy="1905120"/>
                    </a:xfrm>
                    <a:prstGeom prst="rect">
                      <a:avLst/>
                    </a:prstGeom>
                    <a:noFill/>
                    <a:ln cap="rnd" w="12600">
                      <a:solidFill>
                        <a:srgbClr val="ffff66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9" name=""/>
                    <p:cNvSpPr/>
                    <p:nvPr/>
                  </p:nvSpPr>
                  <p:spPr>
                    <a:xfrm>
                      <a:off x="6604920" y="32115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1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7" name=""/>
                    <p:cNvSpPr/>
                    <p:nvPr/>
                  </p:nvSpPr>
                  <p:spPr>
                    <a:xfrm>
                      <a:off x="6603120" y="34290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2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31" name=""/>
                    <p:cNvSpPr/>
                    <p:nvPr/>
                  </p:nvSpPr>
                  <p:spPr>
                    <a:xfrm>
                      <a:off x="6604920" y="36687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3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0" name=""/>
                    <p:cNvSpPr/>
                    <p:nvPr/>
                  </p:nvSpPr>
                  <p:spPr>
                    <a:xfrm>
                      <a:off x="6603120" y="388620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4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9" name=""/>
                    <p:cNvSpPr/>
                    <p:nvPr/>
                  </p:nvSpPr>
                  <p:spPr>
                    <a:xfrm>
                      <a:off x="6604920" y="4125960"/>
                      <a:ext cx="87408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ethod5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1" name=""/>
                    <p:cNvSpPr/>
                    <p:nvPr/>
                  </p:nvSpPr>
                  <p:spPr>
                    <a:xfrm>
                      <a:off x="6316200" y="2971800"/>
                      <a:ext cx="1040400" cy="30708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t">
                      <a:sp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Arial"/>
                        </a:rPr>
                        <a:t>DBI::_::d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42" name=""/>
                    <p:cNvSpPr/>
                    <p:nvPr/>
                  </p:nvSpPr>
                  <p:spPr>
                    <a:xfrm>
                      <a:off x="6685920" y="4572000"/>
                      <a:ext cx="659880" cy="0"/>
                    </a:xfrm>
                    <a:prstGeom prst="line">
                      <a:avLst/>
                    </a:prstGeom>
                    <a:ln cap="rnd" w="12600">
                      <a:solidFill>
                        <a:srgbClr val="ffffff"/>
                      </a:solidFill>
                      <a:custDash>
                        <a:ds d="100000" sp="1000"/>
                      </a:custDash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p:txBody>
                </p:sp>
              </p:grpSp>
              <p:cxnSp>
                <p:nvCxnSpPr>
                  <p:cNvPr id="343" name=""/>
                  <p:cNvCxnSpPr>
                    <a:endCxn id="344" idx="1"/>
                  </p:cNvCxnSpPr>
                  <p:nvPr/>
                </p:nvCxnSpPr>
                <p:spPr>
                  <a:xfrm>
                    <a:off x="7345800" y="4572000"/>
                    <a:ext cx="991080" cy="1905840"/>
                  </a:xfrm>
                  <a:prstGeom prst="straightConnector1">
                    <a:avLst/>
                  </a:prstGeom>
                  <a:ln w="12600">
                    <a:solidFill>
                      <a:srgbClr val="ffffff"/>
                    </a:solidFill>
                    <a:prstDash val="sysDot"/>
                    <a:miter/>
                  </a:ln>
                </p:spPr>
              </p:cxnSp>
            </p:grpSp>
            <p:grpSp>
              <p:nvGrpSpPr>
                <p:cNvPr id="345" name=""/>
                <p:cNvGrpSpPr/>
                <p:nvPr/>
              </p:nvGrpSpPr>
              <p:grpSpPr>
                <a:xfrm>
                  <a:off x="7924320" y="4952880"/>
                  <a:ext cx="1585800" cy="1905120"/>
                  <a:chOff x="7924320" y="4952880"/>
                  <a:chExt cx="1585800" cy="1905120"/>
                </a:xfrm>
              </p:grpSpPr>
              <p:sp>
                <p:nvSpPr>
                  <p:cNvPr id="346" name=""/>
                  <p:cNvSpPr/>
                  <p:nvPr/>
                </p:nvSpPr>
                <p:spPr>
                  <a:xfrm>
                    <a:off x="7924320" y="4952880"/>
                    <a:ext cx="1568160" cy="1905120"/>
                  </a:xfrm>
                  <a:prstGeom prst="rect">
                    <a:avLst/>
                  </a:prstGeom>
                  <a:noFill/>
                  <a:ln cap="rnd" w="12600">
                    <a:solidFill>
                      <a:srgbClr val="ffff66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>
                    <a:off x="8336520" y="58672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4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4" name=""/>
                  <p:cNvSpPr/>
                  <p:nvPr/>
                </p:nvSpPr>
                <p:spPr>
                  <a:xfrm>
                    <a:off x="8336520" y="6324480"/>
                    <a:ext cx="874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method6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>
                    <a:off x="7945560" y="4952880"/>
                    <a:ext cx="156456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66"/>
                        </a:solidFill>
                        <a:latin typeface="Arial"/>
                      </a:rPr>
                      <a:t>DBI::_::common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9" name=""/>
                  <p:cNvSpPr/>
                  <p:nvPr/>
                </p:nvSpPr>
                <p:spPr>
                  <a:xfrm>
                    <a:off x="7924320" y="6858000"/>
                    <a:ext cx="1568160" cy="0"/>
                  </a:xfrm>
                  <a:prstGeom prst="line">
                    <a:avLst/>
                  </a:prstGeom>
                  <a:ln w="19080">
                    <a:solidFill>
                      <a:srgbClr val="0032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350" name=""/>
              <p:cNvGrpSpPr/>
              <p:nvPr/>
            </p:nvGrpSpPr>
            <p:grpSpPr>
              <a:xfrm>
                <a:off x="3580560" y="1676520"/>
                <a:ext cx="735480" cy="307080"/>
                <a:chOff x="3580560" y="1676520"/>
                <a:chExt cx="735480" cy="307080"/>
              </a:xfrm>
            </p:grpSpPr>
            <p:sp>
              <p:nvSpPr>
                <p:cNvPr id="351" name=""/>
                <p:cNvSpPr/>
                <p:nvPr/>
              </p:nvSpPr>
              <p:spPr>
                <a:xfrm>
                  <a:off x="3580560" y="1676520"/>
                  <a:ext cx="735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‘’</a:t>
                  </a:r>
                  <a:r>
                    <a:rPr b="0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ner’’</a:t>
                  </a:r>
                  <a:endParaRPr b="0" lang="en-US" sz="1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 flipH="1">
                  <a:off x="3631680" y="1981080"/>
                  <a:ext cx="659880" cy="0"/>
                </a:xfrm>
                <a:prstGeom prst="line">
                  <a:avLst/>
                </a:prstGeom>
                <a:ln w="19080">
                  <a:solidFill>
                    <a:srgbClr val="ffff66"/>
                  </a:solidFill>
                  <a:miter/>
                  <a:head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natomy of a DBI handl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90600" y="2906640"/>
            <a:ext cx="743040" cy="52380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03920" y="2897280"/>
            <a:ext cx="744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ndl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ef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56" name=""/>
          <p:cNvGrpSpPr/>
          <p:nvPr/>
        </p:nvGrpSpPr>
        <p:grpSpPr>
          <a:xfrm>
            <a:off x="3467160" y="3419280"/>
            <a:ext cx="742680" cy="686160"/>
            <a:chOff x="3467160" y="3419280"/>
            <a:chExt cx="742680" cy="686160"/>
          </a:xfrm>
        </p:grpSpPr>
        <p:sp>
          <p:nvSpPr>
            <p:cNvPr id="357" name=""/>
            <p:cNvSpPr/>
            <p:nvPr/>
          </p:nvSpPr>
          <p:spPr>
            <a:xfrm>
              <a:off x="3467160" y="3581280"/>
              <a:ext cx="742680" cy="52416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358" name=""/>
            <p:cNvCxnSpPr>
              <a:stCxn id="359" idx="2"/>
              <a:endCxn id="357" idx="0"/>
            </p:cNvCxnSpPr>
            <p:nvPr/>
          </p:nvCxnSpPr>
          <p:spPr>
            <a:xfrm>
              <a:off x="3838320" y="3419280"/>
              <a:ext cx="1080" cy="16236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sm" type="triangle" w="sm"/>
            </a:ln>
          </p:spPr>
        </p:cxnSp>
        <p:sp>
          <p:nvSpPr>
            <p:cNvPr id="360" name=""/>
            <p:cNvSpPr/>
            <p:nvPr/>
          </p:nvSpPr>
          <p:spPr>
            <a:xfrm>
              <a:off x="3494880" y="3581280"/>
              <a:ext cx="6562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Magic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61" name=""/>
          <p:cNvSpPr/>
          <p:nvPr/>
        </p:nvSpPr>
        <p:spPr>
          <a:xfrm>
            <a:off x="3054240" y="1752480"/>
            <a:ext cx="0" cy="487692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094840" y="1752480"/>
            <a:ext cx="7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ut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214632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3250800" y="1752480"/>
            <a:ext cx="735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‘’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ner’’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219480" y="2057400"/>
            <a:ext cx="74304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4375080" y="2895120"/>
            <a:ext cx="2971440" cy="2286360"/>
            <a:chOff x="4375080" y="2895120"/>
            <a:chExt cx="2971440" cy="2286360"/>
          </a:xfrm>
        </p:grpSpPr>
        <p:sp>
          <p:nvSpPr>
            <p:cNvPr id="367" name=""/>
            <p:cNvSpPr/>
            <p:nvPr/>
          </p:nvSpPr>
          <p:spPr>
            <a:xfrm flipV="1">
              <a:off x="4375080" y="2895120"/>
              <a:ext cx="577800" cy="68580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75080" y="4114800"/>
              <a:ext cx="577800" cy="106668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952880" y="2895480"/>
              <a:ext cx="2393640" cy="2286000"/>
            </a:xfrm>
            <a:prstGeom prst="rect">
              <a:avLst/>
            </a:prstGeom>
            <a:noFill/>
            <a:ln cap="rnd" w="12600">
              <a:solidFill>
                <a:srgbClr val="ff9933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ruct imp_dbh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 dbih_dbc_t  com;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mplementers …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  … </a:t>
              </a: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wn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7346880" y="2895480"/>
            <a:ext cx="2393640" cy="2286000"/>
            <a:chOff x="7346880" y="2895480"/>
            <a:chExt cx="2393640" cy="2286000"/>
          </a:xfrm>
        </p:grpSpPr>
        <p:sp>
          <p:nvSpPr>
            <p:cNvPr id="371" name=""/>
            <p:cNvSpPr/>
            <p:nvPr/>
          </p:nvSpPr>
          <p:spPr>
            <a:xfrm>
              <a:off x="7774560" y="2895480"/>
              <a:ext cx="1965960" cy="2286000"/>
            </a:xfrm>
            <a:prstGeom prst="rect">
              <a:avLst/>
            </a:prstGeom>
            <a:noFill/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struct dbih_dbc_t  {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   … </a:t>
              </a: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DBI data ...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Arial"/>
                </a:rPr>
                <a:t>}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7346880" y="2895480"/>
              <a:ext cx="427680" cy="53352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 flipV="1">
              <a:off x="7346880" y="3505320"/>
              <a:ext cx="427680" cy="1676160"/>
            </a:xfrm>
            <a:prstGeom prst="line">
              <a:avLst/>
            </a:prstGeom>
            <a:ln cap="rnd" w="12600">
              <a:solidFill>
                <a:srgbClr val="ffff66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1981080" y="2895480"/>
            <a:ext cx="743040" cy="524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467160" y="2895480"/>
            <a:ext cx="743040" cy="524160"/>
          </a:xfrm>
          <a:prstGeom prst="rect">
            <a:avLst/>
          </a:prstGeom>
          <a:noFill/>
          <a:ln w="12600">
            <a:solidFill>
              <a:srgbClr val="ff99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5" name=""/>
          <p:cNvCxnSpPr>
            <a:stCxn id="355" idx="3"/>
            <a:endCxn id="374" idx="1"/>
          </p:cNvCxnSpPr>
          <p:nvPr/>
        </p:nvCxnSpPr>
        <p:spPr>
          <a:xfrm>
            <a:off x="1149480" y="3156120"/>
            <a:ext cx="832320" cy="21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6" name=""/>
          <p:cNvSpPr/>
          <p:nvPr/>
        </p:nvSpPr>
        <p:spPr>
          <a:xfrm>
            <a:off x="1981080" y="3581280"/>
            <a:ext cx="743040" cy="524160"/>
          </a:xfrm>
          <a:prstGeom prst="rect">
            <a:avLst/>
          </a:prstGeom>
          <a:noFill/>
          <a:ln cap="rnd" w="1260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2"/>
            <a:endCxn id="376" idx="0"/>
          </p:cNvCxnSpPr>
          <p:nvPr/>
        </p:nvCxnSpPr>
        <p:spPr>
          <a:xfrm>
            <a:off x="2352240" y="3419280"/>
            <a:ext cx="1080" cy="16236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cxnSp>
        <p:nvCxnSpPr>
          <p:cNvPr id="378" name=""/>
          <p:cNvCxnSpPr>
            <a:stCxn id="376" idx="3"/>
            <a:endCxn id="359" idx="1"/>
          </p:cNvCxnSpPr>
          <p:nvPr/>
        </p:nvCxnSpPr>
        <p:spPr>
          <a:xfrm flipV="1">
            <a:off x="2724120" y="3156840"/>
            <a:ext cx="743760" cy="686520"/>
          </a:xfrm>
          <a:prstGeom prst="straightConnector1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</p:cxnSp>
      <p:sp>
        <p:nvSpPr>
          <p:cNvPr id="379" name=""/>
          <p:cNvSpPr/>
          <p:nvPr/>
        </p:nvSpPr>
        <p:spPr>
          <a:xfrm>
            <a:off x="1981800" y="2895480"/>
            <a:ext cx="59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d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3467880" y="297180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Has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81440" y="3581280"/>
            <a:ext cx="656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ie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agic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898640" y="251460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384720" y="251460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367080" y="2525760"/>
            <a:ext cx="77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DBI::d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708200" y="2374920"/>
            <a:ext cx="2774880" cy="2117880"/>
          </a:xfrm>
          <a:prstGeom prst="rect">
            <a:avLst/>
          </a:prstGeom>
          <a:noFill/>
          <a:ln w="3240">
            <a:solidFill>
              <a:srgbClr val="0000ff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Method call walk-through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spcAft>
                <a:spcPts val="1001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nsider a simple prepare call: 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$dbh-&gt;prepare(…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s reference to an object in the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DBI::d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class (regardless of driver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spcAft>
                <a:spcPts val="1199"/>
              </a:spcAft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 DBI::db::prepar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ethod is an alias for the DBI dispatch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I dispatch calls the driver’s own prepare method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someth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like th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nner_hash_ref = …     # from tie magi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my $implementor_class = …  # from DBI magic 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$inner_hash_ref-&gt;$implementor_class::prepare(..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iver code gets the inner hash so it has fast access to the hash cont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Watching the DBI in action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has detailed call tracing built-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trace can be very helpful in understanding application behavior and for debugg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ows parameters and resul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show detailed driver internal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ce information can be written to a fi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t used often enoug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 used often enough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Enabling trac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er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h-&gt;trace($level, $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nly effects that handle and any new child handles created from i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ild handles get trace level of parent in effect at time of cre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in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-&gt;trace(...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s effective global default </a:t>
            </a:r>
            <a:r>
              <a:rPr b="0" i="1" lang="en-GB" sz="1800" spc="-1" strike="noStrike">
                <a:solidFill>
                  <a:srgbClr val="ffffff"/>
                </a:solidFill>
                <a:latin typeface="Arial"/>
              </a:rPr>
              <a:t>minimum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trac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876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Global (external to application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d us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DBI_TRACE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2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742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DBI_TRACE=digits=filenam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-&gt;trace(digits, filename)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Our program for today...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-360" y="1980720"/>
            <a:ext cx="99061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400" spc="-1" strike="noStrike">
                <a:solidFill>
                  <a:srgbClr val="00cccc"/>
                </a:solidFill>
                <a:latin typeface="Courier New"/>
              </a:rPr>
              <a:t>1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#!/usr/bin/perl -w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2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3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use DBI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4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5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 = DBI-&gt;connect('', '', '', { RaiseError =&gt; 1 }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6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7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upd = $dbh-&gt;prepare("UPDATE prices SET price=? WHERE prod_id=?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8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 = $dbh-&gt;prepare("INSERT INTO prices (prod_id,price) VALUES(?,?)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 </a:t>
            </a: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9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rows = $upd-&gt;execute(42, "Widgets")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0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ins-&gt;execute("Widgets", 42) if $rows == 0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1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cccc"/>
                </a:solidFill>
                <a:latin typeface="Courier New"/>
              </a:rPr>
              <a:t>12:</a:t>
            </a: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 $dbh-&gt;disconnec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1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12920" y="1981080"/>
            <a:ext cx="924552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1 shows method results and line number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&lt;-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= DBI::db=HASH(0xe0abc)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at DBI.pm line 356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('PrintError', 1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AutoCommit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('RaiseError', 1)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UPDATE …')= DBI::st=HASH(0xe1238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('INSERT …')= DBI::st=HASH(0xe1504) at test.pl line 8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'0E0' at test.pl line 9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execute= 1 at test.pl line 10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isconnect= 1 at test.pl line 11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DESTROY= undef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Trace level 2 and abov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2 shows calls with parameters and mor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-&gt;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connect for DBD::ODBC::dr (DBI::dr=HASH(0x13dfec)~0xe14a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' ''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****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HASH(0xe0a10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connect= 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at DBI.pm line 356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STORE for DBD::ODBC::db (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)~INNER 'PrintError' 1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STORE= 1 at DBI.pm line 382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-&gt; prepare for DBD::ODBC::db (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DBI::db=HASH(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0</a:t>
            </a:r>
            <a:r>
              <a:rPr b="0" lang="en-US" sz="1400" spc="-1" strike="noStrike">
                <a:solidFill>
                  <a:srgbClr val="ffff66"/>
                </a:solidFill>
                <a:latin typeface="Courier New"/>
              </a:rPr>
              <a:t>)~</a:t>
            </a:r>
            <a:r>
              <a:rPr b="0" lang="en-US" sz="1400" spc="-1" strike="noStrike">
                <a:solidFill>
                  <a:srgbClr val="ff9933"/>
                </a:solidFill>
                <a:latin typeface="Courier New"/>
              </a:rPr>
              <a:t>0xe0abc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'UPDATE prices SET price=? WHERE prod_id=?'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Courier New"/>
              </a:rPr>
              <a:t>&lt;- prepare= DBI::st=HASH(0xe1274) at test.pl line 7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race level 3 and above shows more processing detai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o do or to undo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that is the ques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905120" y="3130560"/>
            <a:ext cx="6426000" cy="74916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odu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905120" y="1911240"/>
            <a:ext cx="6426000" cy="7495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l Applicati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44508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216320" y="4425840"/>
            <a:ext cx="188604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Inform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4425840"/>
            <a:ext cx="1885680" cy="749520"/>
          </a:xfrm>
          <a:prstGeom prst="rect">
            <a:avLst/>
          </a:prstGeom>
          <a:noFill/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BD::Oracl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18120" y="266688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18120" y="396252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305424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00560" y="3962520"/>
            <a:ext cx="1981440" cy="38088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24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118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512120" y="5181480"/>
            <a:ext cx="0" cy="381240"/>
          </a:xfrm>
          <a:prstGeom prst="line">
            <a:avLst/>
          </a:prstGeom>
          <a:ln w="12600">
            <a:solidFill>
              <a:srgbClr val="ffffff"/>
            </a:solidFill>
            <a:miter/>
            <a:headEnd len="med" type="stealth" w="med"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2262240" y="5410080"/>
            <a:ext cx="921600" cy="993960"/>
            <a:chOff x="2262240" y="5410080"/>
            <a:chExt cx="921600" cy="993960"/>
          </a:xfrm>
        </p:grpSpPr>
        <p:grpSp>
          <p:nvGrpSpPr>
            <p:cNvPr id="113" name=""/>
            <p:cNvGrpSpPr/>
            <p:nvPr/>
          </p:nvGrpSpPr>
          <p:grpSpPr>
            <a:xfrm>
              <a:off x="2262240" y="5410080"/>
              <a:ext cx="921600" cy="993960"/>
              <a:chOff x="2262240" y="5410080"/>
              <a:chExt cx="921600" cy="993960"/>
            </a:xfrm>
          </p:grpSpPr>
          <p:sp>
            <p:nvSpPr>
              <p:cNvPr id="114" name=""/>
              <p:cNvSpPr/>
              <p:nvPr/>
            </p:nvSpPr>
            <p:spPr>
              <a:xfrm>
                <a:off x="2262240" y="612936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262240" y="5554800"/>
                <a:ext cx="9216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2262240" y="5410080"/>
                <a:ext cx="9216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2270520" y="6264360"/>
              <a:ext cx="9086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272320" y="5553000"/>
              <a:ext cx="9050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651200" y="5410080"/>
            <a:ext cx="923400" cy="993960"/>
            <a:chOff x="4651200" y="5410080"/>
            <a:chExt cx="923400" cy="993960"/>
          </a:xfrm>
        </p:grpSpPr>
        <p:grpSp>
          <p:nvGrpSpPr>
            <p:cNvPr id="120" name=""/>
            <p:cNvGrpSpPr/>
            <p:nvPr/>
          </p:nvGrpSpPr>
          <p:grpSpPr>
            <a:xfrm>
              <a:off x="4651200" y="5410080"/>
              <a:ext cx="923400" cy="993960"/>
              <a:chOff x="4651200" y="5410080"/>
              <a:chExt cx="923400" cy="993960"/>
            </a:xfrm>
          </p:grpSpPr>
          <p:sp>
            <p:nvSpPr>
              <p:cNvPr id="121" name=""/>
              <p:cNvSpPr/>
              <p:nvPr/>
            </p:nvSpPr>
            <p:spPr>
              <a:xfrm>
                <a:off x="465120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65120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65120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4" name=""/>
            <p:cNvSpPr/>
            <p:nvPr/>
          </p:nvSpPr>
          <p:spPr>
            <a:xfrm>
              <a:off x="465948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661640" y="5553000"/>
              <a:ext cx="90684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7056360" y="5410080"/>
            <a:ext cx="923400" cy="993960"/>
            <a:chOff x="7056360" y="5410080"/>
            <a:chExt cx="923400" cy="993960"/>
          </a:xfrm>
        </p:grpSpPr>
        <p:grpSp>
          <p:nvGrpSpPr>
            <p:cNvPr id="127" name=""/>
            <p:cNvGrpSpPr/>
            <p:nvPr/>
          </p:nvGrpSpPr>
          <p:grpSpPr>
            <a:xfrm>
              <a:off x="7056360" y="5410080"/>
              <a:ext cx="923400" cy="993960"/>
              <a:chOff x="7056360" y="5410080"/>
              <a:chExt cx="923400" cy="993960"/>
            </a:xfrm>
          </p:grpSpPr>
          <p:sp>
            <p:nvSpPr>
              <p:cNvPr id="128" name=""/>
              <p:cNvSpPr/>
              <p:nvPr/>
            </p:nvSpPr>
            <p:spPr>
              <a:xfrm>
                <a:off x="7056360" y="612936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7056360" y="5554800"/>
                <a:ext cx="923400" cy="704520"/>
              </a:xfrm>
              <a:prstGeom prst="rect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056360" y="5410080"/>
                <a:ext cx="923400" cy="274680"/>
              </a:xfrm>
              <a:prstGeom prst="ellips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7064640" y="6264360"/>
              <a:ext cx="9100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066800" y="5553000"/>
              <a:ext cx="906480" cy="0"/>
            </a:xfrm>
            <a:prstGeom prst="line">
              <a:avLst/>
            </a:prstGeom>
            <a:ln w="25560">
              <a:solidFill>
                <a:srgbClr val="003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3" name=""/>
          <p:cNvSpPr/>
          <p:nvPr/>
        </p:nvSpPr>
        <p:spPr>
          <a:xfrm>
            <a:off x="2067840" y="6400800"/>
            <a:ext cx="12870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racle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75160" y="6400800"/>
            <a:ext cx="139680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Informix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92200" y="6400800"/>
            <a:ext cx="12074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Other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Server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47680" y="3505320"/>
            <a:ext cx="156852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420040" y="3505320"/>
            <a:ext cx="1403280" cy="0"/>
          </a:xfrm>
          <a:prstGeom prst="line">
            <a:avLst/>
          </a:prstGeom>
          <a:ln w="12600">
            <a:solidFill>
              <a:srgbClr val="00cccc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A picture is worth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What's it all about? 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ar more than just lock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A.C.I.D. te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tomicity - Consistency - Isolation - Durability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rue transactions give true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ven from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power failur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system crashes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08440" indent="-221400">
              <a:spcBef>
                <a:spcPts val="49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ncomplete transactions are automatically rolled-back by the database server when it's restar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lso removes burden of undoing incomplete chang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ard to implement (for the vendor) and has significant performance c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very large topic worthy of an entire tutori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Life Preserv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Classic: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system crash between one bank account being debited and another being credite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Dramatic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wer failure during update statement on 3 million rows after 2 minutes when only part way through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Real-world: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mplex series of inter-related updates, deletes and inserts on many separate tables fails at the last step due to a duplicate primary key on an inser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ransaction recovery would handle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se situations automaticall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akes a system far more robust and trustworthy over the long ter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ransactions if your database supports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 doesn't and you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need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them, switch to a different databas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How the DBI help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ools of the trad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AutoCommi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ff,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Wrap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round the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$dbh-&gt;commit;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rollback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isable AutoCommit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AutoCommit} = 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enable transactions and thus rollback-on-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Enable RaiseError via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RaiseError} = 1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automatically 'throw an exception' after an erro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surrounding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tches the exception, the error text is stored in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@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10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@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rollback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() if se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51560" indent="-210240">
              <a:spcBef>
                <a:spcPts val="90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e that a failed statement doesn’t automatically trigger a rollbac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Example cod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Auto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0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{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aiseError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 = 1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eval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i="1" lang="en-GB" sz="1800" spc="-1" strike="noStrike">
                <a:solidFill>
                  <a:srgbClr val="ffffff"/>
                </a:solidFill>
                <a:latin typeface="Courier New"/>
              </a:rPr>
              <a:t>method(…)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# assorted DBI call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foo(...);          # application c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commit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      # commit the chang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f ($@) {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arn "Transaction aborted because $@"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dbh-&gt;</a:t>
            </a:r>
            <a:r>
              <a:rPr b="0" lang="en-GB" sz="1800" spc="-1" strike="noStrike">
                <a:solidFill>
                  <a:srgbClr val="ffff66"/>
                </a:solidFill>
                <a:latin typeface="Courier New"/>
              </a:rPr>
              <a:t>rollback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ransactions - Further commen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eval { … 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catches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all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excep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t just from DBI calls. Also catches fatal runtime errors from Perl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u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commit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nside the ev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sures commit failure is caugh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remember that </a:t>
            </a:r>
            <a:r>
              <a:rPr b="0" i="1" lang="en-GB" sz="1600" spc="-1" strike="noStrike">
                <a:solidFill>
                  <a:srgbClr val="ffffff"/>
                </a:solidFill>
                <a:latin typeface="Courier New"/>
              </a:rPr>
              <a:t>commit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()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tself may fail for many reas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n't forget tha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rollback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may also fai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ue to database crash or network failure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o you may want to call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eval { $dbh-&gt;rollback() }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point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lways explicitly commit or rollback befor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disconnect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(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Destroying a connected $dbh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should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lways rollback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ND blocks can catch exit-without-disconnect to rollback and disconnect cleanly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for the Web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Hand waving from 30,000 fe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nect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atabases can be slow to connec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raditional CGI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forces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a new connect per reques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ove Perl and DBI into the web serv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 with mod_perl and Apache::DBI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icrosoft IIS with ActiveState's PerlEx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nections can then persist and be shared between reques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Apache::DBI automatically used by DBI if loade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CGI script changes required to get persisten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ake care not to change the shared session behaviou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Leave the </a:t>
            </a:r>
            <a:r>
              <a:rPr b="0" lang="en-GB" sz="1600" spc="-1" strike="noStrike">
                <a:solidFill>
                  <a:srgbClr val="ffffff"/>
                </a:solidFill>
                <a:latin typeface="Courier New"/>
              </a:rPr>
              <a:t>$dbh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in the same state you found it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Other alternatives includ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stCGI, CGI::SpeedyCGI and CGI::MiniSv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oo many connection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Limits on Database Conn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atabase platform resources or licen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emory consumption of web serv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artition web servers into General and Databa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irect database work to the Database web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Reverse Proxy / Redirect / Rewrite to achieve thi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llows each subset of servers to be tuned to best fit work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/or be run on appropriate hardware platfor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State-less-nes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fixed client-server pai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ach request can be handled by a different proces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o can't simply stop fetching when one page is complete and continue fetching from the same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$sth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when the next page is requeste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nd transactions can't span requests. Even if they could you'd have problems with database locks being held etc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150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eed access to 'accumulated state' somehow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client (e.g., hidden form field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via the server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database (records in a session_state table keyed by a ‘session id’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in the web server file system (DBM files etc) if shared across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eed to purge old state info if stored on server, so timestamp 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3" marL="1455840" indent="-207720">
              <a:spcBef>
                <a:spcPts val="400"/>
              </a:spcBef>
              <a:buClr>
                <a:srgbClr val="00cccc"/>
              </a:buClr>
              <a:buSzPct val="60000"/>
              <a:buFont typeface="Monotype Sort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ee Apache::Session modul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::ProxyServer + connect_cached with session id may suit, one d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493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Browsing pages of result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each time then count/discard (simple but expensiv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for small results sets or where users rarely view many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fast initial response, degrades gradually for later pag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in server is better but still inefficient for large result se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ount/discard affected by inserts and deletes from other proces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-execute query with where clause using min/max keys from last resul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works well where original query can be qualified in that way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, not comm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full result rows somewhere for fast acces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can be expensive for large result sets with big field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Select and cache only the row keys, fetch full rows as need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optimisation of above, use ROWID if supported, "select … where … in (…)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data is static and queries predic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349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then custom pre-built indexes may be usefu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he caches can be on web server, using DBM file for example, or on database server using a table keyed by session i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4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    </a:t>
            </a:r>
            <a:r>
              <a:rPr b="0" i="1" lang="en-GB" sz="6600" spc="-1" strike="noStrike">
                <a:solidFill>
                  <a:srgbClr val="00cccc"/>
                </a:solidFill>
                <a:latin typeface="Times New Roman"/>
              </a:rPr>
              <a:t>Speed</a:t>
            </a:r>
            <a:r>
              <a:rPr b="0" i="1" lang="en-GB" sz="5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5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66"/>
                </a:solidFill>
                <a:latin typeface="Arial"/>
              </a:rPr>
              <a:t>What helps,what doesn'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Concurrent edi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How to prevent updates overwriting each other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You can use Optimistic Locking via 'qualified update'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update table set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where  key = $old_ke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1 = $old_field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285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and field2 = $old_field2 and …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 all field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eck the update row cou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If it's zero then you know the record has been changed or deleted by another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otential problems with floating point data values not match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 support a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high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resolution 'update timestamp' field that can be checked instea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1486080" y="3476520"/>
            <a:ext cx="3500280" cy="0"/>
          </a:xfrm>
          <a:prstGeom prst="line">
            <a:avLst/>
          </a:prstGeom>
          <a:ln cap="rnd" w="12600">
            <a:solidFill>
              <a:srgbClr val="00cccc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Web DBI - Tips for the nov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est one step at a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perl + DBI + DBD driver outside the web server fir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Test web server + non-DBI CGI n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member that CGI scripts run as a different user with a different environment - expect to be tripped up by tha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BI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trace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is your friend - use i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the Perl "-w" and "-T" options. Always "use strict;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and inwardly digest the WWW Security FAQ: 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www.w3.org/Security/Faq/www-security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Read the Perl CGI FAQ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www.perl.com/cgi-bin/pace/pub/doc/FAQs/cgi/perl-cgi-faq.htm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, if appropriate, read the mod_perl information available fro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51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http://perl.apache.or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I security tainting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y default the DBI ignores Perl tain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taint return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doesn't check that parameters are not tain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The Taint attribute enables that behavio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-2124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If Perl itself is in taint mod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62720" indent="0">
              <a:spcBef>
                <a:spcPts val="2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Each handle has it's own inherited Taint attrib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can be enabled for particular connections and disabled for particular statements, for exampl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 = DBI-&gt;connect(…, { Taint =&gt; 1 }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 = $dbh-&gt;prepare("select * from safe_table"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sth-&gt;{Taint} = 0;  # no tainting on this hand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Handling LONG/BLOB data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49320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hat makes LONG / BLOB / MEMO data special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Not practical to pre-allocate fixed size buffers for worst ca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Fetching LONGs - treat as normal fields after setting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ReadLen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buffer size to allocate for expected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$dbh-&gt;{LongTruncOk}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 - should truncating-to-fit be allow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nserting LON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limitations of string liter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e benefits of placehold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hunking / Piecewise processing not support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 you're limited to available mem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rivers support 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blob_read()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and other private metho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Holy Gra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o be taken with a pinch of sa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ortability in practic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32796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ortability requires care and testing - it can be trick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Platform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the easier b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atabase client software (and server if required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Availability of DBD driv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D::Proxy can address both these issues - see l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atabase Portability </a:t>
            </a: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more trick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SQL dialects cause most probl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ifferences in data types can also be a proble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river capabilities (placeholders et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Ix::Compat module (in DBIx::RecordSet) may be usefu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 standard DBI test suite is needed (and planned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ower of the Proxy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Thin clients 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nd other buzz word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DBD::Proxy &amp; DBI::ProxyServer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tworking for Non-networked databa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D::Proxy driver forwards calls over network to remote DBI::ProxyServ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changes in application behav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Only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xy can be made completely transparent by setting the </a:t>
            </a:r>
            <a:r>
              <a:rPr b="0" lang="en-US" sz="2400" spc="-1" strike="noStrike">
                <a:solidFill>
                  <a:srgbClr val="ffffff"/>
                </a:solidFill>
                <a:latin typeface="Courier New"/>
              </a:rPr>
              <a:t>DBI_AUTOPROX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nvironment vari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not even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DBI-&gt;connec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statement needs to be changed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::ProxyServer works on Win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ccess to Access and other Win32 ODBC and ADO data 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veloped by Jochen Wiedman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A Proxy Picture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grpSp>
        <p:nvGrpSpPr>
          <p:cNvPr id="438" name=""/>
          <p:cNvGrpSpPr/>
          <p:nvPr/>
        </p:nvGrpSpPr>
        <p:grpSpPr>
          <a:xfrm>
            <a:off x="412920" y="2057400"/>
            <a:ext cx="3301560" cy="2514600"/>
            <a:chOff x="412920" y="2057400"/>
            <a:chExt cx="3301560" cy="2514600"/>
          </a:xfrm>
        </p:grpSpPr>
        <p:sp>
          <p:nvSpPr>
            <p:cNvPr id="439" name=""/>
            <p:cNvSpPr/>
            <p:nvPr/>
          </p:nvSpPr>
          <p:spPr>
            <a:xfrm>
              <a:off x="412920" y="2057400"/>
              <a:ext cx="3301560" cy="1600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1292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363680" y="2362320"/>
              <a:ext cx="1054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pplicatio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342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43" name=""/>
          <p:cNvGrpSpPr/>
          <p:nvPr/>
        </p:nvGrpSpPr>
        <p:grpSpPr>
          <a:xfrm>
            <a:off x="412920" y="5486400"/>
            <a:ext cx="3301200" cy="762120"/>
            <a:chOff x="412920" y="5486400"/>
            <a:chExt cx="3301200" cy="762120"/>
          </a:xfrm>
        </p:grpSpPr>
        <p:sp>
          <p:nvSpPr>
            <p:cNvPr id="444" name=""/>
            <p:cNvSpPr/>
            <p:nvPr/>
          </p:nvSpPr>
          <p:spPr>
            <a:xfrm>
              <a:off x="412920" y="5486400"/>
              <a:ext cx="330120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1370880" y="5715000"/>
              <a:ext cx="121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Clien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12920" y="579132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47480" y="586728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641320" y="5791320"/>
              <a:ext cx="107280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680920" y="5867280"/>
              <a:ext cx="10173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6191280" y="4724280"/>
            <a:ext cx="3301560" cy="762120"/>
            <a:chOff x="6191280" y="4724280"/>
            <a:chExt cx="3301560" cy="762120"/>
          </a:xfrm>
        </p:grpSpPr>
        <p:sp>
          <p:nvSpPr>
            <p:cNvPr id="451" name=""/>
            <p:cNvSpPr/>
            <p:nvPr/>
          </p:nvSpPr>
          <p:spPr>
            <a:xfrm>
              <a:off x="619128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99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139160" y="4952880"/>
              <a:ext cx="96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Foo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6191280" y="2057400"/>
            <a:ext cx="3301560" cy="2514600"/>
            <a:chOff x="6191280" y="2057400"/>
            <a:chExt cx="3301560" cy="2514600"/>
          </a:xfrm>
        </p:grpSpPr>
        <p:sp>
          <p:nvSpPr>
            <p:cNvPr id="454" name=""/>
            <p:cNvSpPr/>
            <p:nvPr/>
          </p:nvSpPr>
          <p:spPr>
            <a:xfrm>
              <a:off x="6191280" y="38098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120080" y="403848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191280" y="2057400"/>
              <a:ext cx="3301560" cy="83808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7160760" y="2286000"/>
              <a:ext cx="1561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I::Proxy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191280" y="2895480"/>
              <a:ext cx="3301560" cy="7621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7233840" y="3124080"/>
              <a:ext cx="1280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PC::pServe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6191280" y="3200400"/>
              <a:ext cx="99036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229440" y="3276720"/>
              <a:ext cx="966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O:Socke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584560" y="3200400"/>
              <a:ext cx="907920" cy="4572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19120" y="3276720"/>
              <a:ext cx="845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Storable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4" name=""/>
          <p:cNvGrpSpPr/>
          <p:nvPr/>
        </p:nvGrpSpPr>
        <p:grpSpPr>
          <a:xfrm>
            <a:off x="3738600" y="3429000"/>
            <a:ext cx="2451960" cy="2590200"/>
            <a:chOff x="3738600" y="3429000"/>
            <a:chExt cx="2451960" cy="2590200"/>
          </a:xfrm>
        </p:grpSpPr>
        <p:sp>
          <p:nvSpPr>
            <p:cNvPr id="465" name=""/>
            <p:cNvSpPr/>
            <p:nvPr/>
          </p:nvSpPr>
          <p:spPr>
            <a:xfrm>
              <a:off x="4292280" y="3505320"/>
              <a:ext cx="1486080" cy="1523880"/>
            </a:xfrm>
            <a:prstGeom prst="cloudCallout">
              <a:avLst>
                <a:gd name="adj1" fmla="val -25694"/>
                <a:gd name="adj2" fmla="val -31041"/>
              </a:avLst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6" name=""/>
            <p:cNvCxnSpPr>
              <a:stCxn id="461" idx="1"/>
              <a:endCxn id="465" idx="0"/>
            </p:cNvCxnSpPr>
            <p:nvPr/>
          </p:nvCxnSpPr>
          <p:spPr>
            <a:xfrm flipV="1" rot="10800000">
              <a:off x="5775840" y="3428640"/>
              <a:ext cx="415080" cy="838800"/>
            </a:xfrm>
            <a:prstGeom prst="curvedConnector5">
              <a:avLst>
                <a:gd name="adj1" fmla="val 49739"/>
                <a:gd name="adj2" fmla="val 49978"/>
                <a:gd name="adj3" fmla="val 49739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cxnSp>
          <p:nvCxnSpPr>
            <p:cNvPr id="467" name=""/>
            <p:cNvCxnSpPr>
              <a:stCxn id="465" idx="1"/>
              <a:endCxn id="449" idx="3"/>
            </p:cNvCxnSpPr>
            <p:nvPr/>
          </p:nvCxnSpPr>
          <p:spPr>
            <a:xfrm flipV="1" rot="10800000">
              <a:off x="3738600" y="4266000"/>
              <a:ext cx="559080" cy="1753560"/>
            </a:xfrm>
            <a:prstGeom prst="curvedConnector5">
              <a:avLst>
                <a:gd name="adj1" fmla="val 50451"/>
                <a:gd name="adj2" fmla="val 50000"/>
                <a:gd name="adj3" fmla="val 50451"/>
              </a:avLst>
            </a:prstGeom>
            <a:ln w="12600">
              <a:solidFill>
                <a:srgbClr val="ffffff"/>
              </a:solidFill>
              <a:miter/>
              <a:headEnd len="sm" type="triangle" w="sm"/>
              <a:tailEnd len="sm" type="triangle" w="sm"/>
            </a:ln>
          </p:spPr>
        </p:cxnSp>
        <p:sp>
          <p:nvSpPr>
            <p:cNvPr id="468" name=""/>
            <p:cNvSpPr/>
            <p:nvPr/>
          </p:nvSpPr>
          <p:spPr>
            <a:xfrm>
              <a:off x="4574880" y="4038480"/>
              <a:ext cx="834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469" name=""/>
          <p:cNvGrpSpPr/>
          <p:nvPr/>
        </p:nvGrpSpPr>
        <p:grpSpPr>
          <a:xfrm>
            <a:off x="412920" y="4724280"/>
            <a:ext cx="3301560" cy="762120"/>
            <a:chOff x="412920" y="4724280"/>
            <a:chExt cx="3301560" cy="762120"/>
          </a:xfrm>
        </p:grpSpPr>
        <p:sp>
          <p:nvSpPr>
            <p:cNvPr id="470" name=""/>
            <p:cNvSpPr/>
            <p:nvPr/>
          </p:nvSpPr>
          <p:spPr>
            <a:xfrm>
              <a:off x="1366560" y="495288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BD::Prox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2920" y="4724280"/>
              <a:ext cx="3301560" cy="762120"/>
            </a:xfrm>
            <a:prstGeom prst="rect">
              <a:avLst/>
            </a:prstGeom>
            <a:noFill/>
            <a:ln w="1260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in clients and other buzz word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remote access: "thin-client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No need for database client code on the DBI cli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network security: "encrypt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use Crypt::IDEA, Crypt::DES 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"access control" and "firewalls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handy for web server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action contr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e.g., only allow specific select or insert statemen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roxying for performance: "compression"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Can compress data transfers using Compress::Zli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Give me s</a:t>
            </a:r>
            <a:r>
              <a:rPr b="0" lang="en-US" sz="4800" spc="-1" strike="noStrike">
                <a:solidFill>
                  <a:srgbClr val="00cccc"/>
                </a:solidFill>
                <a:latin typeface="Times New Roman"/>
              </a:rPr>
              <a:t>p</a:t>
            </a:r>
            <a:r>
              <a:rPr b="0" lang="en-US" sz="54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000" spc="-1" strike="noStrike">
                <a:solidFill>
                  <a:srgbClr val="00cccc"/>
                </a:solidFill>
                <a:latin typeface="Times New Roman"/>
              </a:rPr>
              <a:t>e</a:t>
            </a:r>
            <a:r>
              <a:rPr b="0" lang="en-US" sz="6600" spc="-1" strike="noStrike">
                <a:solidFill>
                  <a:srgbClr val="00cccc"/>
                </a:solidFill>
                <a:latin typeface="Times New Roman"/>
              </a:rPr>
              <a:t>d</a:t>
            </a: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!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wa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signe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speed from day o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method dispatcher written in hand-crafted XS/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atch to XS driver method calls optimiz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ched attributes returned directly by DBI dispatch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BI overhead is generally insignifica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 we'll talk about other speed issues instead 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The practical realitie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odes of oper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-threaded Mode - one thread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safe for production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BI is thread-safe but not thread-h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Forking Mode - one process per conne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st practical mode for UNIX-like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esn’t scale to large numbers of connect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t available on Windows prior to Perl 5.6.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ork emulation in Perl 5.6.0 not tested with DBI y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ingle Connection Mode - one one connection suppor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Obviously only of limited 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No round-robin mode available y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Flexing the 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1485720" y="41148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ffff66"/>
                </a:solidFill>
                <a:latin typeface="Arial"/>
              </a:rPr>
              <a:t>A new kid on the blo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DBD::Multiplex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12920" y="1980720"/>
            <a:ext cx="924552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DBD::Multiple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nects to multiple databases at once (via DBI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xecutes each statement on each database by defaul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uld be configured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inser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into all databases but </a:t>
            </a: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on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llback to alternate database if primary is unavail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round-robin / or at random to distribute loa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SzPct val="85000"/>
              <a:buFont typeface="Courier New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select</a:t>
            </a: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 from all and check results (pick most comm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an be used with DBD::Proxy, either above or bel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ay also acquire fancy caching in later vers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Watch this space: ftp://not.tdlc.com/pub/Multiplex.p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1708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ed by Thomas Kishel and Tim Bu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Reference Materials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1"/>
              </a:rPr>
              <a:t>http://www.symbolstone.org/technology/perl/DB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e DBI Home P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ff9933"/>
                </a:solidFill>
                <a:uFillTx/>
                <a:latin typeface="Arial"/>
                <a:hlinkClick r:id="rId2"/>
              </a:rPr>
              <a:t>http://www.isc.org/dbi-lists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o subscribe to the DBI Mailing List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1_1997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1.0 - general introdu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2_1998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y DBI session at The Perl Conference 2.0 - more dept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perl.com/CPAN/authors/id/TIMB/DBI_Talk4_2000.tar.gz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This DBI tutorial at The Perl Conference 4.0 (based on the 3.0 tutorial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http://www.oreilly.com/catalog/perldbi/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or http://www.amazon.com/exec/obidos/ASIN/1565926994/d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rogramming the Perl DBI - </a:t>
            </a:r>
            <a:r>
              <a:rPr b="0" i="1" lang="en-GB" sz="1600" spc="-1" strike="noStrike">
                <a:solidFill>
                  <a:srgbClr val="ffffff"/>
                </a:solidFill>
                <a:latin typeface="Arial"/>
              </a:rPr>
              <a:t>The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 DBI book!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742680" y="20570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cccc"/>
                </a:solidFill>
                <a:latin typeface="Times New Roman"/>
              </a:rPr>
              <a:t>The end.</a:t>
            </a:r>
            <a:br>
              <a:rPr sz="6000"/>
            </a:br>
            <a:endParaRPr b="0" lang="en-US" sz="60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1115640" y="4114800"/>
            <a:ext cx="82472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66"/>
                </a:solidFill>
                <a:latin typeface="Times New Roman"/>
              </a:rPr>
              <a:t>Till next year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p.s. I’m also giving three semin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on the Database Discovery cruise, June 20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www.GeekCruises.co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artition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Application partitio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what where? - stop and think - work smarter not hard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Pick the right database for the job, if you have the choic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Work close to the dat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Moving data to/from the client is always expensiv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onsider latency as well as bandwidt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Use stored procedures where appropriat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o more in SQL where appropriate - get a good boo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ultiple simple queries with 'joins' in Perl may be fast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Use proprietary bulk-load, not Perl, where appropria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Consider local caching, in memory or DBM file etc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Mix 'n Match techniques as needed - experiment and benchmark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cccc"/>
                </a:solidFill>
                <a:latin typeface="Times New Roman"/>
              </a:rPr>
              <a:t>Prepare for speed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prepare()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 - what happens in the server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ceive and parse the SQL statement into internal for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access rights for each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selected fiel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Check data types in expression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Get details for all the indices on all the tab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Develop an optimised query 'access plan' for best execu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Return a handle for all this cached inform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This can be an expensive proc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ffffff"/>
              </a:buClr>
              <a:buSzPct val="85000"/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especially the 'access plan’ for a complex multi-table que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ffcc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Arial"/>
              </a:rPr>
              <a:t>Some databases, like MySQL, don't cache the information but have simpler, and thus faster, plan cre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e00"/>
            </a:gs>
            <a:gs pos="50000">
              <a:srgbClr val="000000"/>
            </a:gs>
            <a:gs pos="100000">
              <a:srgbClr val="001e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12920" y="151920"/>
            <a:ext cx="9162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cccc"/>
                </a:solidFill>
                <a:latin typeface="Times New Roman"/>
              </a:rPr>
              <a:t>How would you do it?</a:t>
            </a:r>
            <a:endParaRPr b="0" lang="en-US" sz="4400" spc="-1" strike="noStrike">
              <a:solidFill>
                <a:srgbClr val="00cccc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12560" y="1980720"/>
            <a:ext cx="9080280" cy="4343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urier New"/>
              </a:rPr>
              <a:t>SELECT * FROM t1, t2  WHERE t1.key=1 AND t2.key=2 AND t1.value=t2.valu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ne possible approach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one table using the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hen, loop for each row returned, and..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lect from the other table using it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key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 and the current row’s </a:t>
            </a:r>
            <a:r>
              <a:rPr b="0" lang="en-US" sz="1800" spc="-1" strike="noStrike">
                <a:solidFill>
                  <a:srgbClr val="ffffff"/>
                </a:solidFill>
                <a:latin typeface="Courier New"/>
              </a:rPr>
              <a:t>valu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fiel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ut which table to select first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keep it simple, assume that both tables have the same value in all row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know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that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.key=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000 rows and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.key=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matches 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n we know that we should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ecause that way we only have to select from each table on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we selected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first then we’d have to select from </a:t>
            </a:r>
            <a:r>
              <a:rPr b="0" lang="en-US" sz="2000" spc="-1" strike="noStrike">
                <a:solidFill>
                  <a:srgbClr val="ffffff"/>
                </a:solidFill>
                <a:latin typeface="Courier New"/>
              </a:rPr>
              <a:t>t2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1000 times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-329040">
              <a:spcBef>
                <a:spcPts val="499"/>
              </a:spcBef>
              <a:buClr>
                <a:srgbClr val="00cccc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 alternative approach would be to select from both and mer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1:14Z</dcterms:created>
  <dc:creator>Tim Bunce</dc:creator>
  <dc:description/>
  <dc:language>en-US</dc:language>
  <cp:lastModifiedBy>IG</cp:lastModifiedBy>
  <cp:lastPrinted>2000-07-14T21:24:25Z</cp:lastPrinted>
  <dcterms:modified xsi:type="dcterms:W3CDTF">2000-07-18T04:26:47Z</dcterms:modified>
  <cp:revision>93</cp:revision>
  <dc:subject/>
  <dc:title>Integrating Perl and Database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4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1</vt:r8>
  </property>
  <property fmtid="{D5CDD505-2E9C-101B-9397-08002B2CF9AE}" pid="12" name="Other">
    <vt:lpwstr/>
  </property>
  <property fmtid="{D5CDD505-2E9C-101B-9397-08002B2CF9AE}" pid="13" name="OutputDir">
    <vt:lpwstr>C:\home\timbo\dbi\Talks\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