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584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3AA657-2780-4737-AB76-B6528BB2E753}" type="datetime"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789120" y="738000"/>
            <a:ext cx="5279760" cy="365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2CB3C17-D803-4326-B1A6-70AA7E4C8229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ble to all database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just D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787320" y="736560"/>
            <a:ext cx="5268960" cy="364968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progression from las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prep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SQL doesn’t support plac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driver emulates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 prepare &amp; execute is still a gain for tight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it avoids the DBI handle creation ove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overhead of $dbh-&gt;ping in connect_cached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 your head spinning ye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't worry, you don't need to know this stuff to use the DBI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omicity   - all or no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istency - database stays consistent, no violations of constra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olation   - each transaction executes as if done seri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rability  - once the transaction completes, the changes will pers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 properties are implemented by concurrency controls and recovery mech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785880" y="760320"/>
            <a:ext cx="5276880" cy="36529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 logical design and physical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always first priority, but beyond our scop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part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k close to the data - actually inside the database is 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ored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y benefits where they are applic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nguage often painfully limited compared with Pe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ving data is expensive -bandwidth (bulk) and latency (ite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lk-load - use proprietary tools for maximum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you can use perl to massage the data into the right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bulk-load tools often have limited functi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DBI for maximum flexibility, such as update-else-in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9356-4329-4DEA-B35A-CB882A6C3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5128-B565-4325-8959-6C77EAEAC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9C12-AC7A-475C-B09B-6AE6E8457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9AEE-1405-404B-8068-F5D95C49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7F98-74B0-4304-8FC0-C99206794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3A6C-62D8-4C3C-9624-6C20DB522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702F-BA0B-49B7-8C87-B6A76295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B3EB-7D84-4DD3-938D-711EA2F8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CA27-ED58-456D-B14E-EC7B7039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6FC6-78DE-4E61-B237-1EA1FDBBC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F952-B718-493B-9D01-BB5E5D005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B298-106B-4695-9BA5-98FC22790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903960" cy="152280"/>
            <a:chOff x="0" y="1428840"/>
            <a:chExt cx="99039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9039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9039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1098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994B7-31CB-4C56-832E-82C4621B97FE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254720" y="0"/>
            <a:ext cx="265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Advanced DBI </a:t>
            </a:r>
            <a:r>
              <a:rPr b="0" lang="en-GB" sz="700" spc="-1" strike="noStrike">
                <a:solidFill>
                  <a:srgbClr val="00cccc"/>
                </a:solidFill>
                <a:latin typeface="Arial"/>
              </a:rPr>
              <a:t>tutori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© Tim Bun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July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F8C0D-299E-494E-8914-6316337BCED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680" y="3276720"/>
            <a:ext cx="9899280" cy="152280"/>
            <a:chOff x="4680" y="3276720"/>
            <a:chExt cx="9899280" cy="152280"/>
          </a:xfrm>
        </p:grpSpPr>
        <p:sp>
          <p:nvSpPr>
            <p:cNvPr id="48" name=""/>
            <p:cNvSpPr/>
            <p:nvPr/>
          </p:nvSpPr>
          <p:spPr>
            <a:xfrm>
              <a:off x="4680" y="3276720"/>
              <a:ext cx="98992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680" y="3390840"/>
              <a:ext cx="98992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www.symbolstone.org/technology/perl/DBI" TargetMode="External"/><Relationship Id="rId2" Type="http://schemas.openxmlformats.org/officeDocument/2006/relationships/hyperlink" Target="http://www.isc.org/dbi-lists.html" TargetMode="External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Advanced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Perl Conference 4.0 Tuto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July 2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best laid pl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7320" y="1980720"/>
            <a:ext cx="9410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Query optimisation is h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elligent high quality cost based query optimisation is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reall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har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now your optimi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acle, Informix, Sybase, DB2, SQL Server etc. all slightly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what it's d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tools to see the plans used for your queries - very helpf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lp it al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st 'big name' databases have a mechanism to analyse and store the key distributions of indices to help the optimiser make good pla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important for tables with ‘skewed’ key distribu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keep it fresh, old key distributions might be worse than n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also allow you to embed 'hints' into the SQL as com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take it easy, over hinting hinders dynamic optimis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 rot="673200">
            <a:off x="5780160" y="193680"/>
            <a:ext cx="80964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ces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48480" y="1143000"/>
            <a:ext cx="247680" cy="241200"/>
          </a:xfrm>
          <a:custGeom>
            <a:avLst/>
            <a:gdLst/>
            <a:ahLst/>
            <a:rect l="l" t="t" r="r" b="b"/>
            <a:pathLst>
              <a:path w="144" h="152">
                <a:moveTo>
                  <a:pt x="0" y="152"/>
                </a:moveTo>
                <a:cubicBezTo>
                  <a:pt x="36" y="84"/>
                  <a:pt x="72" y="16"/>
                  <a:pt x="96" y="8"/>
                </a:cubicBezTo>
                <a:cubicBezTo>
                  <a:pt x="120" y="0"/>
                  <a:pt x="136" y="88"/>
                  <a:pt x="144" y="10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ySQL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2883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EXPLAI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tt.TicketNumber, tt.TimeI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ProjectReference, tt.EstimatedShipDat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ActualShipDate, tt.Client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ServiceCodes, tt.Repetitive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CurrentProcess, tt.CurrentDPPerso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RecordVolume, tt.DPPrinted, et.COUNTRY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.COUNTRY, do.CUSTNAME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tt, et, et AS et_1, 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tt.SubmitTime IS NU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ctualPC = et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ssignedPC = et_1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ClientID = do.CUSTNMBR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lan is described as results like thi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TABLE TYPE   POSSIBLE_KEYS                KEY      KEY_LEN REF            ROWS     EXT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    ALL    PRIMARY                      NULL     NULL    NULL           7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    ref    AssignedPC,ClientID,ActualPC ActualPC 15      et.EMPLOYID    52       where u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  eq_ref PRIMARY                      PRIMARY  15      tt.AssignedPC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do    eq_ref PRIMARY                      PRIMARY  15      tt.ClientID  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racle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EXPLAIN PLAN SET STATEMENT_ID = 'Emp_Sal’ FOR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ename, job, sal, dn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emp, de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deptno = dept.dept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NOT EXI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(SELECT * FROM salgra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sal BETWEEN losal AND hisal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at writes plan details into a table which can be queried to yield results like this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ID  PAR Query P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--- --- 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0     Select Statement   Cost = 696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 0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 1  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 2       Merge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 4           Table Access Full T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6           Table Access Full T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 2       Index Unique Scan T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 1     Table Access Full T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18872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hanging plans (hint hint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database systems provide some way to influence the execution plan - typically via ‘hint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supports a very large and complex range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u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contained within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INDEX(table1 index1) */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foo, b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FROM table1 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SQL has a very limited set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ca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ptional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placed inside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foo, bar FROM table1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USE INDEX (key1,key2) 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spect your server's SQL cach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8997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timised Access Plan etc. is cached within the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ed by the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exa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riginal SQL string 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ar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$id"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?", undef, $id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out placeholders, SQL string varies each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ched one is not re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ime is wasted creating a new access 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new statement and access plan are added to ca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he cache fills and other statements get pushe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 a busy system this can lead to ‘thrashing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ot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60240" y="1980720"/>
            <a:ext cx="8994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voi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do(…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 a speed-critical loo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execut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te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gets a handle on the statement in the SQL cache and keeps it t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the handle for the pre-prepared statement avoids a round-trip to server for SQL cache-check / parsing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example, convert loop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o("insert … ?", undef, 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"insert … ?"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loope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xecute(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often gives a significant performance bo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ummary (so far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k about the big picture fir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tioning, choice of tools e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and tune the access plans for your stat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ch your database about your key distrib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placehol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pecially for any statements that vary and will be executed of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o(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a l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fore the loop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xecut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in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rivers don’t support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times queries using placeholders are slo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access plan has to be more gene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Let the DBI cache your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times it's not easy to hold all you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.g., library code to lookup values from the data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prepare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 gives you a client side statement handle cach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dbh, 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prepare_cached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selectrow_array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avoid the need for global statement handle var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nother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prepare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y for dynamically constructed stat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while ( ($field, $value) = each %search_fields 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sql,   "$field = ?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values, $valu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where ".join(" and ", @sql) if @sql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* from table $where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-&gt;execute(@values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opical Topic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eed Speed Spe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and 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els within Whe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 for the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ling LONG/BLOB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ower of the Prox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lexing the 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Keep a handle on your databa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necting to a database can be s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y to connect once and stay connected where prac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'll discuss web server issues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connect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ts 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ut for database hand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 also checks the connection and reconnects if it's bro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it’s most handy for library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milar, but not quite the same as Apache::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ew and subject to change with exper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ly most useful with DBD::Proxy &amp; DBI::Proxy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s well combined with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connect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 and contrast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1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2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_cached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ling less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,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,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,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,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just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ind_columns(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r direc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ccess to fetched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&amp; Error Handl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err is huma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etect, div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importance of error check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rrors happe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ilure happens when you don't expect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 crash / network dis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ack of disk space for insert or select (sort space for order b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rver math error on select (divide by zero after 10,000 row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maybe, just maybe, errors in your own cod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Gasp!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at failure by expecting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tect errors early to limit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fensive Programming, e.g., check assum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rough Programming, e.g., check for errors after fetch lo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- ways and me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hard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smart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tt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ke the DBI call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i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for y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simple applications immediate death on error is f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error message is usually accurate and detailed enou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tter than the error messages some developers us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more advanced applications greater control is needed, perhap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rrect the problem and re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Fail that chunk of work and move on to ano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Log error and clean up before a graceful ex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whatever else to need to 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uzzwords: Need to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catc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 error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except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eing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row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y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fe after dea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foo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method;  # fails so the DBI calls d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bar($h);     # may also call DBI metho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... handle the error here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onus pr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ther, non-DBI, code within the eval block may also raise an exception that will be caught and handled clea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e DBI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and how to watch it at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Setting the scen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wor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pplication and Dri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handles are references to tied has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DBI Method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teway between the worlds and the heart of the 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ow we'll go all deep and visual for a whil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’s it all abou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178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defines and implements an interface to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g-in driver modules do the database-specific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limited to the lowest common denomin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werful automatic error check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1812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5836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283360" y="3876480"/>
            <a:ext cx="3631320" cy="1219320"/>
            <a:chOff x="5283360" y="3876480"/>
            <a:chExt cx="3631320" cy="1219320"/>
          </a:xfrm>
        </p:grpSpPr>
        <p:sp>
          <p:nvSpPr>
            <p:cNvPr id="194" name=""/>
            <p:cNvSpPr/>
            <p:nvPr/>
          </p:nvSpPr>
          <p:spPr>
            <a:xfrm>
              <a:off x="52833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079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214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4776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75944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8328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00" name=""/>
            <p:cNvCxnSpPr>
              <a:stCxn id="194" idx="0"/>
              <a:endCxn id="201" idx="2"/>
            </p:cNvCxnSpPr>
            <p:nvPr/>
          </p:nvCxnSpPr>
          <p:spPr>
            <a:xfrm flipV="1">
              <a:off x="586044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2" name=""/>
            <p:cNvCxnSpPr>
              <a:stCxn id="196" idx="0"/>
              <a:endCxn id="203" idx="2"/>
            </p:cNvCxnSpPr>
            <p:nvPr/>
          </p:nvCxnSpPr>
          <p:spPr>
            <a:xfrm flipV="1">
              <a:off x="70984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4" name=""/>
            <p:cNvCxnSpPr>
              <a:stCxn id="198" idx="0"/>
              <a:endCxn id="205" idx="2"/>
            </p:cNvCxnSpPr>
            <p:nvPr/>
          </p:nvCxnSpPr>
          <p:spPr>
            <a:xfrm flipV="1">
              <a:off x="83368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206" name=""/>
          <p:cNvSpPr/>
          <p:nvPr/>
        </p:nvSpPr>
        <p:spPr>
          <a:xfrm flipH="1">
            <a:off x="4209840" y="2057400"/>
            <a:ext cx="74268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7680" y="38098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9080" y="38862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073160" y="4572000"/>
            <a:ext cx="1155240" cy="523800"/>
            <a:chOff x="1073160" y="4572000"/>
            <a:chExt cx="1155240" cy="523800"/>
          </a:xfrm>
        </p:grpSpPr>
        <p:sp>
          <p:nvSpPr>
            <p:cNvPr id="210" name=""/>
            <p:cNvSpPr/>
            <p:nvPr/>
          </p:nvSpPr>
          <p:spPr>
            <a:xfrm>
              <a:off x="10731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99520" y="464796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311560" y="4572000"/>
            <a:ext cx="1155240" cy="523800"/>
            <a:chOff x="2311560" y="4572000"/>
            <a:chExt cx="1155240" cy="523800"/>
          </a:xfrm>
        </p:grpSpPr>
        <p:sp>
          <p:nvSpPr>
            <p:cNvPr id="213" name=""/>
            <p:cNvSpPr/>
            <p:nvPr/>
          </p:nvSpPr>
          <p:spPr>
            <a:xfrm>
              <a:off x="23115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39360" y="46479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549600" y="4572000"/>
            <a:ext cx="1155240" cy="523800"/>
            <a:chOff x="3549600" y="4572000"/>
            <a:chExt cx="1155240" cy="523800"/>
          </a:xfrm>
        </p:grpSpPr>
        <p:sp>
          <p:nvSpPr>
            <p:cNvPr id="216" name=""/>
            <p:cNvSpPr/>
            <p:nvPr/>
          </p:nvSpPr>
          <p:spPr>
            <a:xfrm>
              <a:off x="35496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74160" y="4647960"/>
              <a:ext cx="71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124280" y="5334120"/>
            <a:ext cx="350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 handle classes visible to applicati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se classes are effectively ‘empty’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94240" y="3876480"/>
            <a:ext cx="4471560" cy="2526480"/>
            <a:chOff x="5394240" y="3876480"/>
            <a:chExt cx="4471560" cy="2526480"/>
          </a:xfrm>
        </p:grpSpPr>
        <p:sp>
          <p:nvSpPr>
            <p:cNvPr id="220" name=""/>
            <p:cNvSpPr/>
            <p:nvPr/>
          </p:nvSpPr>
          <p:spPr>
            <a:xfrm>
              <a:off x="623376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1548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718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5604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7102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79084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0" idx="0"/>
              <a:endCxn id="201" idx="2"/>
            </p:cNvCxnSpPr>
            <p:nvPr/>
          </p:nvCxnSpPr>
          <p:spPr>
            <a:xfrm flipH="1" flipV="1">
              <a:off x="610776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7" name=""/>
            <p:cNvCxnSpPr>
              <a:stCxn id="222" idx="0"/>
              <a:endCxn id="203" idx="2"/>
            </p:cNvCxnSpPr>
            <p:nvPr/>
          </p:nvCxnSpPr>
          <p:spPr>
            <a:xfrm flipH="1" flipV="1">
              <a:off x="73458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8" name=""/>
            <p:cNvCxnSpPr>
              <a:stCxn id="224" idx="0"/>
              <a:endCxn id="205" idx="2"/>
            </p:cNvCxnSpPr>
            <p:nvPr/>
          </p:nvCxnSpPr>
          <p:spPr>
            <a:xfrm flipH="1" flipV="1">
              <a:off x="85842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29" name=""/>
            <p:cNvSpPr/>
            <p:nvPr/>
          </p:nvSpPr>
          <p:spPr>
            <a:xfrm>
              <a:off x="539424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283360" y="1752480"/>
            <a:ext cx="4568400" cy="2124360"/>
            <a:chOff x="5283360" y="1752480"/>
            <a:chExt cx="4568400" cy="2124360"/>
          </a:xfrm>
        </p:grpSpPr>
        <p:grpSp>
          <p:nvGrpSpPr>
            <p:cNvPr id="231" name=""/>
            <p:cNvGrpSpPr/>
            <p:nvPr/>
          </p:nvGrpSpPr>
          <p:grpSpPr>
            <a:xfrm>
              <a:off x="6108120" y="2133720"/>
              <a:ext cx="2476080" cy="1218600"/>
              <a:chOff x="6108120" y="2133720"/>
              <a:chExt cx="2476080" cy="121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65833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38600" y="2133720"/>
                <a:ext cx="17334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34" name=""/>
              <p:cNvCxnSpPr>
                <a:stCxn id="201" idx="0"/>
                <a:endCxn id="233" idx="2"/>
              </p:cNvCxnSpPr>
              <p:nvPr/>
            </p:nvCxnSpPr>
            <p:spPr>
              <a:xfrm flipV="1">
                <a:off x="6108120" y="2657160"/>
                <a:ext cx="119736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5" name=""/>
              <p:cNvCxnSpPr>
                <a:stCxn id="203" idx="0"/>
                <a:endCxn id="233" idx="2"/>
              </p:cNvCxnSpPr>
              <p:nvPr/>
            </p:nvCxnSpPr>
            <p:spPr>
              <a:xfrm flipH="1" flipV="1">
                <a:off x="7304760" y="2657160"/>
                <a:ext cx="414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6" name=""/>
              <p:cNvCxnSpPr>
                <a:stCxn id="205" idx="0"/>
                <a:endCxn id="233" idx="2"/>
              </p:cNvCxnSpPr>
              <p:nvPr/>
            </p:nvCxnSpPr>
            <p:spPr>
              <a:xfrm flipH="1" flipV="1">
                <a:off x="7304760" y="2657160"/>
                <a:ext cx="12798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37" name=""/>
            <p:cNvGrpSpPr/>
            <p:nvPr/>
          </p:nvGrpSpPr>
          <p:grpSpPr>
            <a:xfrm>
              <a:off x="5283360" y="1752480"/>
              <a:ext cx="3880080" cy="2124360"/>
              <a:chOff x="5283360" y="1752480"/>
              <a:chExt cx="3880080" cy="212436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5530680" y="3352680"/>
                <a:ext cx="1154880" cy="524160"/>
                <a:chOff x="5530680" y="3352680"/>
                <a:chExt cx="1154880" cy="5241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530680" y="3352680"/>
                  <a:ext cx="11548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66748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769080" y="3352680"/>
                <a:ext cx="1192680" cy="524160"/>
                <a:chOff x="6769080" y="3352680"/>
                <a:chExt cx="1192680" cy="5241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6769080" y="3352680"/>
                  <a:ext cx="11559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90768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8007120" y="3352680"/>
                <a:ext cx="1156320" cy="524160"/>
                <a:chOff x="8007120" y="3352680"/>
                <a:chExt cx="1156320" cy="524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8007120" y="3352680"/>
                  <a:ext cx="115632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814356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531432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83360" y="2057400"/>
                <a:ext cx="7426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861660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044240" y="1752480"/>
            <a:ext cx="1899360" cy="4193280"/>
            <a:chOff x="4044240" y="1752480"/>
            <a:chExt cx="1899360" cy="4193280"/>
          </a:xfrm>
        </p:grpSpPr>
        <p:cxnSp>
          <p:nvCxnSpPr>
            <p:cNvPr id="249" name=""/>
            <p:cNvCxnSpPr>
              <a:stCxn id="250" idx="1"/>
              <a:endCxn id="251" idx="3"/>
            </p:cNvCxnSpPr>
            <p:nvPr/>
          </p:nvCxnSpPr>
          <p:spPr>
            <a:xfrm flipH="1">
              <a:off x="4050720" y="2361960"/>
              <a:ext cx="81972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/>
            <p:nvPr/>
          </p:nvCxnSpPr>
          <p:spPr>
            <a:xfrm flipV="1">
              <a:off x="4051080" y="3276000"/>
              <a:ext cx="8197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3" name=""/>
            <p:cNvCxnSpPr/>
            <p:nvPr/>
          </p:nvCxnSpPr>
          <p:spPr>
            <a:xfrm flipV="1">
              <a:off x="4051080" y="2601360"/>
              <a:ext cx="80244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4" name=""/>
            <p:cNvCxnSpPr>
              <a:stCxn id="251" idx="3"/>
              <a:endCxn id="255" idx="1"/>
            </p:cNvCxnSpPr>
            <p:nvPr/>
          </p:nvCxnSpPr>
          <p:spPr>
            <a:xfrm flipV="1">
              <a:off x="4051080" y="2818800"/>
              <a:ext cx="81972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6" name=""/>
            <p:cNvCxnSpPr>
              <a:stCxn id="251" idx="3"/>
              <a:endCxn id="257" idx="1"/>
            </p:cNvCxnSpPr>
            <p:nvPr/>
          </p:nvCxnSpPr>
          <p:spPr>
            <a:xfrm flipV="1">
              <a:off x="4051080" y="3058560"/>
              <a:ext cx="80244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8" name=""/>
            <p:cNvCxnSpPr>
              <a:stCxn id="251" idx="3"/>
              <a:endCxn id="259" idx="1"/>
            </p:cNvCxnSpPr>
            <p:nvPr/>
          </p:nvCxnSpPr>
          <p:spPr>
            <a:xfrm flipV="1">
              <a:off x="4051080" y="2144160"/>
              <a:ext cx="80244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9" name=""/>
            <p:cNvSpPr/>
            <p:nvPr/>
          </p:nvSpPr>
          <p:spPr>
            <a:xfrm>
              <a:off x="4852800" y="19922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70080" y="22096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70080" y="26668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52800" y="29066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/>
            <p:nvPr/>
          </p:nvCxnSpPr>
          <p:spPr>
            <a:xfrm flipH="1" flipV="1">
              <a:off x="4044240" y="3961800"/>
              <a:ext cx="82620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1" name=""/>
            <p:cNvCxnSpPr/>
            <p:nvPr/>
          </p:nvCxnSpPr>
          <p:spPr>
            <a:xfrm>
              <a:off x="4044600" y="3962160"/>
              <a:ext cx="82620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2" name=""/>
            <p:cNvCxnSpPr>
              <a:stCxn id="263" idx="0"/>
              <a:endCxn id="264" idx="1"/>
            </p:cNvCxnSpPr>
            <p:nvPr/>
          </p:nvCxnSpPr>
          <p:spPr>
            <a:xfrm>
              <a:off x="4044600" y="3962160"/>
              <a:ext cx="80892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5" name=""/>
            <p:cNvCxnSpPr>
              <a:stCxn id="263" idx="1"/>
              <a:endCxn id="266" idx="1"/>
            </p:cNvCxnSpPr>
            <p:nvPr/>
          </p:nvCxnSpPr>
          <p:spPr>
            <a:xfrm>
              <a:off x="4044600" y="3962160"/>
              <a:ext cx="82620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7" name=""/>
            <p:cNvCxnSpPr/>
            <p:nvPr/>
          </p:nvCxnSpPr>
          <p:spPr>
            <a:xfrm>
              <a:off x="4044600" y="3962160"/>
              <a:ext cx="80892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8" name=""/>
            <p:cNvCxnSpPr>
              <a:stCxn id="263" idx="1"/>
              <a:endCxn id="269" idx="1"/>
            </p:cNvCxnSpPr>
            <p:nvPr/>
          </p:nvCxnSpPr>
          <p:spPr>
            <a:xfrm>
              <a:off x="4044600" y="3962160"/>
              <a:ext cx="80892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69" name=""/>
            <p:cNvSpPr/>
            <p:nvPr/>
          </p:nvSpPr>
          <p:spPr>
            <a:xfrm>
              <a:off x="4852800" y="4202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52800" y="46594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70080" y="487692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40320" y="1752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40320" y="4038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414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414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952880" y="25909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52880" y="45720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52880" y="52578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52880" y="32767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52880" y="54864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65240" y="6858000"/>
            <a:ext cx="132084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486080" y="6095880"/>
            <a:ext cx="6190920" cy="764280"/>
            <a:chOff x="1486080" y="6095880"/>
            <a:chExt cx="6190920" cy="764280"/>
          </a:xfrm>
        </p:grpSpPr>
        <p:sp>
          <p:nvSpPr>
            <p:cNvPr id="281" name=""/>
            <p:cNvSpPr/>
            <p:nvPr/>
          </p:nvSpPr>
          <p:spPr>
            <a:xfrm>
              <a:off x="4457880" y="6095880"/>
              <a:ext cx="3219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40320" y="6248520"/>
              <a:ext cx="1403280" cy="60948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41040" y="6248520"/>
              <a:ext cx="108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40320" y="6858000"/>
              <a:ext cx="1403280" cy="0"/>
            </a:xfrm>
            <a:prstGeom prst="line">
              <a:avLst/>
            </a:prstGeom>
            <a:ln w="19080">
              <a:solidFill>
                <a:srgbClr val="00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52800" y="6488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1486080" y="6248520"/>
              <a:ext cx="1567800" cy="611640"/>
              <a:chOff x="1486080" y="6248520"/>
              <a:chExt cx="1567800" cy="611640"/>
            </a:xfrm>
          </p:grpSpPr>
          <p:sp>
            <p:nvSpPr>
              <p:cNvPr id="287" name=""/>
              <p:cNvSpPr/>
              <p:nvPr/>
            </p:nvSpPr>
            <p:spPr>
              <a:xfrm>
                <a:off x="2063520" y="655308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7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81080" y="6248520"/>
                <a:ext cx="107280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98108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486080" y="670572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81080" y="6858000"/>
                <a:ext cx="107280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" name=""/>
          <p:cNvGrpSpPr/>
          <p:nvPr/>
        </p:nvGrpSpPr>
        <p:grpSpPr>
          <a:xfrm>
            <a:off x="165240" y="1676520"/>
            <a:ext cx="3335400" cy="5181480"/>
            <a:chOff x="165240" y="1676520"/>
            <a:chExt cx="3335400" cy="5181480"/>
          </a:xfrm>
        </p:grpSpPr>
        <p:sp>
          <p:nvSpPr>
            <p:cNvPr id="293" name=""/>
            <p:cNvSpPr/>
            <p:nvPr/>
          </p:nvSpPr>
          <p:spPr>
            <a:xfrm>
              <a:off x="165240" y="1752480"/>
              <a:ext cx="132048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1485720" y="2895480"/>
              <a:ext cx="1650240" cy="1981440"/>
              <a:chOff x="1485720" y="2895480"/>
              <a:chExt cx="1650240" cy="1981440"/>
            </a:xfrm>
          </p:grpSpPr>
          <p:cxnSp>
            <p:nvCxnSpPr>
              <p:cNvPr id="295" name=""/>
              <p:cNvCxnSpPr>
                <a:stCxn id="296" idx="3"/>
                <a:endCxn id="251" idx="1"/>
              </p:cNvCxnSpPr>
              <p:nvPr/>
            </p:nvCxnSpPr>
            <p:spPr>
              <a:xfrm>
                <a:off x="2903760" y="3363480"/>
                <a:ext cx="23256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7" name=""/>
              <p:cNvCxnSpPr>
                <a:stCxn id="251" idx="1"/>
                <a:endCxn id="298" idx="3"/>
              </p:cNvCxnSpPr>
              <p:nvPr/>
            </p:nvCxnSpPr>
            <p:spPr>
              <a:xfrm flipH="1" flipV="1">
                <a:off x="2903400" y="3820680"/>
                <a:ext cx="23256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9" name=""/>
              <p:cNvCxnSpPr>
                <a:stCxn id="251" idx="1"/>
                <a:endCxn id="300" idx="3"/>
              </p:cNvCxnSpPr>
              <p:nvPr/>
            </p:nvCxnSpPr>
            <p:spPr>
              <a:xfrm flipH="1">
                <a:off x="2901960" y="3885840"/>
                <a:ext cx="23400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1" name=""/>
              <p:cNvCxnSpPr>
                <a:stCxn id="251" idx="1"/>
                <a:endCxn id="302" idx="3"/>
              </p:cNvCxnSpPr>
              <p:nvPr/>
            </p:nvCxnSpPr>
            <p:spPr>
              <a:xfrm flipH="1">
                <a:off x="2903400" y="3885840"/>
                <a:ext cx="23256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3" name=""/>
              <p:cNvCxnSpPr>
                <a:stCxn id="251" idx="1"/>
                <a:endCxn id="304" idx="3"/>
              </p:cNvCxnSpPr>
              <p:nvPr/>
            </p:nvCxnSpPr>
            <p:spPr>
              <a:xfrm flipH="1">
                <a:off x="2901960" y="3885840"/>
                <a:ext cx="23400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5" name=""/>
              <p:cNvCxnSpPr>
                <a:stCxn id="251" idx="1"/>
                <a:endCxn id="306" idx="3"/>
              </p:cNvCxnSpPr>
              <p:nvPr/>
            </p:nvCxnSpPr>
            <p:spPr>
              <a:xfrm flipH="1" flipV="1">
                <a:off x="2901960" y="3580560"/>
                <a:ext cx="23400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96" name=""/>
              <p:cNvSpPr/>
              <p:nvPr/>
            </p:nvSpPr>
            <p:spPr>
              <a:xfrm>
                <a:off x="2064600" y="32115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062800" y="34290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64600" y="36687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62800" y="38862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064600" y="41259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062800" y="43434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6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980720" y="2895480"/>
                <a:ext cx="107280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01564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85720" y="3352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85720" y="35812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485720" y="38098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485720" y="40384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485720" y="42670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85720" y="4495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754720" y="1676520"/>
              <a:ext cx="745920" cy="307080"/>
              <a:chOff x="2754720" y="1676520"/>
              <a:chExt cx="745920" cy="307080"/>
            </a:xfrm>
          </p:grpSpPr>
          <p:sp>
            <p:nvSpPr>
              <p:cNvPr id="316" name=""/>
              <p:cNvSpPr/>
              <p:nvPr/>
            </p:nvSpPr>
            <p:spPr>
              <a:xfrm>
                <a:off x="275472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2805480" y="1981080"/>
                <a:ext cx="6606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3170520" y="1676520"/>
            <a:ext cx="873720" cy="5181480"/>
            <a:chOff x="3170520" y="1676520"/>
            <a:chExt cx="873720" cy="5181480"/>
          </a:xfrm>
        </p:grpSpPr>
        <p:grpSp>
          <p:nvGrpSpPr>
            <p:cNvPr id="319" name=""/>
            <p:cNvGrpSpPr/>
            <p:nvPr/>
          </p:nvGrpSpPr>
          <p:grpSpPr>
            <a:xfrm>
              <a:off x="3170520" y="3505320"/>
              <a:ext cx="873720" cy="535680"/>
              <a:chOff x="3170520" y="3505320"/>
              <a:chExt cx="873720" cy="535680"/>
            </a:xfrm>
          </p:grpSpPr>
          <p:sp>
            <p:nvSpPr>
              <p:cNvPr id="251" name=""/>
              <p:cNvSpPr/>
              <p:nvPr/>
            </p:nvSpPr>
            <p:spPr>
              <a:xfrm>
                <a:off x="317052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04424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32280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354960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54960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580560" y="1676520"/>
            <a:ext cx="5929560" cy="5181480"/>
            <a:chOff x="3580560" y="1676520"/>
            <a:chExt cx="5929560" cy="5181480"/>
          </a:xfrm>
        </p:grpSpPr>
        <p:grpSp>
          <p:nvGrpSpPr>
            <p:cNvPr id="325" name=""/>
            <p:cNvGrpSpPr/>
            <p:nvPr/>
          </p:nvGrpSpPr>
          <p:grpSpPr>
            <a:xfrm>
              <a:off x="5613120" y="2590560"/>
              <a:ext cx="1032480" cy="2895480"/>
              <a:chOff x="5613120" y="2590560"/>
              <a:chExt cx="1032480" cy="2895480"/>
            </a:xfrm>
          </p:grpSpPr>
          <p:cxnSp>
            <p:nvCxnSpPr>
              <p:cNvPr id="326" name=""/>
              <p:cNvCxnSpPr>
                <a:stCxn id="275" idx="0"/>
                <a:endCxn id="327" idx="1"/>
              </p:cNvCxnSpPr>
              <p:nvPr/>
            </p:nvCxnSpPr>
            <p:spPr>
              <a:xfrm flipV="1">
                <a:off x="5613120" y="3580920"/>
                <a:ext cx="991080" cy="9914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28" name=""/>
              <p:cNvCxnSpPr>
                <a:stCxn id="276" idx="0"/>
                <a:endCxn id="329" idx="1"/>
              </p:cNvCxnSpPr>
              <p:nvPr/>
            </p:nvCxnSpPr>
            <p:spPr>
              <a:xfrm flipV="1">
                <a:off x="5613480" y="4277520"/>
                <a:ext cx="992880" cy="9802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0" name=""/>
              <p:cNvCxnSpPr>
                <a:stCxn id="274" idx="0"/>
                <a:endCxn id="331" idx="1"/>
              </p:cNvCxnSpPr>
              <p:nvPr/>
            </p:nvCxnSpPr>
            <p:spPr>
              <a:xfrm>
                <a:off x="5613480" y="2590560"/>
                <a:ext cx="992880" cy="123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2" name=""/>
              <p:cNvCxnSpPr>
                <a:stCxn id="278" idx="0"/>
              </p:cNvCxnSpPr>
              <p:nvPr/>
            </p:nvCxnSpPr>
            <p:spPr>
              <a:xfrm flipV="1">
                <a:off x="5613480" y="4582440"/>
                <a:ext cx="992880" cy="90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3" name=""/>
              <p:cNvCxnSpPr>
                <a:stCxn id="277" idx="0"/>
              </p:cNvCxnSpPr>
              <p:nvPr/>
            </p:nvCxnSpPr>
            <p:spPr>
              <a:xfrm>
                <a:off x="5613480" y="3276720"/>
                <a:ext cx="1032480" cy="1296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</p:grpSp>
        <p:grpSp>
          <p:nvGrpSpPr>
            <p:cNvPr id="334" name=""/>
            <p:cNvGrpSpPr/>
            <p:nvPr/>
          </p:nvGrpSpPr>
          <p:grpSpPr>
            <a:xfrm>
              <a:off x="3580560" y="1676520"/>
              <a:ext cx="5929560" cy="5181480"/>
              <a:chOff x="3580560" y="1676520"/>
              <a:chExt cx="5929560" cy="518148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6273720" y="2971800"/>
                <a:ext cx="3236400" cy="3886200"/>
                <a:chOff x="6273720" y="2971800"/>
                <a:chExt cx="3236400" cy="388620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6273720" y="2971800"/>
                  <a:ext cx="2062800" cy="3505680"/>
                  <a:chOff x="6273720" y="2971800"/>
                  <a:chExt cx="2062800" cy="3505680"/>
                </a:xfrm>
              </p:grpSpPr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6273720" y="2971800"/>
                    <a:ext cx="1402560" cy="1905120"/>
                    <a:chOff x="6273720" y="2971800"/>
                    <a:chExt cx="1402560" cy="190512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6273720" y="2971800"/>
                      <a:ext cx="1402560" cy="1905120"/>
                    </a:xfrm>
                    <a:prstGeom prst="rect">
                      <a:avLst/>
                    </a:prstGeom>
                    <a:noFill/>
                    <a:ln cap="rnd" w="12600">
                      <a:solidFill>
                        <a:srgbClr val="ffff66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6604920" y="32115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6603120" y="34290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6604920" y="36687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>
                      <a:off x="6603120" y="38862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6604920" y="41259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>
                      <a:off x="6316200" y="2971800"/>
                      <a:ext cx="104040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BI::_::d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6685920" y="4572000"/>
                      <a:ext cx="659880" cy="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cxnSp>
                <p:nvCxnSpPr>
                  <p:cNvPr id="343" name=""/>
                  <p:cNvCxnSpPr>
                    <a:endCxn id="344" idx="1"/>
                  </p:cNvCxnSpPr>
                  <p:nvPr/>
                </p:nvCxnSpPr>
                <p:spPr>
                  <a:xfrm>
                    <a:off x="7345800" y="4572000"/>
                    <a:ext cx="991080" cy="1905840"/>
                  </a:xfrm>
                  <a:prstGeom prst="straightConnector1">
                    <a:avLst/>
                  </a:prstGeom>
                  <a:ln w="12600">
                    <a:solidFill>
                      <a:srgbClr val="ffffff"/>
                    </a:solidFill>
                    <a:prstDash val="sysDot"/>
                    <a:miter/>
                  </a:ln>
                </p:spPr>
              </p:cxn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7924320" y="4952880"/>
                  <a:ext cx="1585800" cy="1905120"/>
                  <a:chOff x="7924320" y="4952880"/>
                  <a:chExt cx="1585800" cy="190512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7924320" y="4952880"/>
                    <a:ext cx="156816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8336520" y="58672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4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8336520" y="63244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6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7945560" y="4952880"/>
                    <a:ext cx="1564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common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7924320" y="6858000"/>
                    <a:ext cx="1568160" cy="0"/>
                  </a:xfrm>
                  <a:prstGeom prst="line">
                    <a:avLst/>
                  </a:prstGeom>
                  <a:ln w="19080">
                    <a:solidFill>
                      <a:srgbClr val="0032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0" name=""/>
              <p:cNvGrpSpPr/>
              <p:nvPr/>
            </p:nvGrpSpPr>
            <p:grpSpPr>
              <a:xfrm>
                <a:off x="3580560" y="1676520"/>
                <a:ext cx="735480" cy="307080"/>
                <a:chOff x="3580560" y="1676520"/>
                <a:chExt cx="735480" cy="3070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3580560" y="1676520"/>
                  <a:ext cx="735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‘’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ner’’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H="1">
                  <a:off x="3631680" y="1981080"/>
                  <a:ext cx="659880" cy="0"/>
                </a:xfrm>
                <a:prstGeom prst="line">
                  <a:avLst/>
                </a:prstGeom>
                <a:ln w="19080">
                  <a:solidFill>
                    <a:srgbClr val="ffff66"/>
                  </a:solidFill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0600" y="2906640"/>
            <a:ext cx="743040" cy="52380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3920" y="28972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467160" y="3419280"/>
            <a:ext cx="742680" cy="686160"/>
            <a:chOff x="3467160" y="3419280"/>
            <a:chExt cx="742680" cy="686160"/>
          </a:xfrm>
        </p:grpSpPr>
        <p:sp>
          <p:nvSpPr>
            <p:cNvPr id="357" name=""/>
            <p:cNvSpPr/>
            <p:nvPr/>
          </p:nvSpPr>
          <p:spPr>
            <a:xfrm>
              <a:off x="3467160" y="3581280"/>
              <a:ext cx="74268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58" name=""/>
            <p:cNvCxnSpPr>
              <a:stCxn id="359" idx="2"/>
              <a:endCxn id="357" idx="0"/>
            </p:cNvCxnSpPr>
            <p:nvPr/>
          </p:nvCxnSpPr>
          <p:spPr>
            <a:xfrm>
              <a:off x="38383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60" name=""/>
            <p:cNvSpPr/>
            <p:nvPr/>
          </p:nvSpPr>
          <p:spPr>
            <a:xfrm>
              <a:off x="349488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05424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09484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14632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50800" y="175248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n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1948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375080" y="2895120"/>
            <a:ext cx="2971440" cy="2286360"/>
            <a:chOff x="4375080" y="2895120"/>
            <a:chExt cx="2971440" cy="2286360"/>
          </a:xfrm>
        </p:grpSpPr>
        <p:sp>
          <p:nvSpPr>
            <p:cNvPr id="367" name=""/>
            <p:cNvSpPr/>
            <p:nvPr/>
          </p:nvSpPr>
          <p:spPr>
            <a:xfrm flipV="1">
              <a:off x="4375080" y="2895120"/>
              <a:ext cx="57780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75080" y="4114800"/>
              <a:ext cx="57780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52880" y="2895480"/>
              <a:ext cx="239364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346880" y="2895480"/>
            <a:ext cx="2393640" cy="2286000"/>
            <a:chOff x="7346880" y="2895480"/>
            <a:chExt cx="2393640" cy="2286000"/>
          </a:xfrm>
        </p:grpSpPr>
        <p:sp>
          <p:nvSpPr>
            <p:cNvPr id="371" name=""/>
            <p:cNvSpPr/>
            <p:nvPr/>
          </p:nvSpPr>
          <p:spPr>
            <a:xfrm>
              <a:off x="7774560" y="2895480"/>
              <a:ext cx="196596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7346880" y="2895480"/>
              <a:ext cx="42768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>
              <a:off x="7346880" y="3505320"/>
              <a:ext cx="42768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981080" y="28954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467160" y="2895480"/>
            <a:ext cx="743040" cy="52416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355" idx="3"/>
            <a:endCxn id="374" idx="1"/>
          </p:cNvCxnSpPr>
          <p:nvPr/>
        </p:nvCxnSpPr>
        <p:spPr>
          <a:xfrm>
            <a:off x="1149480" y="3156120"/>
            <a:ext cx="83232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6" name=""/>
          <p:cNvSpPr/>
          <p:nvPr/>
        </p:nvSpPr>
        <p:spPr>
          <a:xfrm>
            <a:off x="1981080" y="3581280"/>
            <a:ext cx="743040" cy="5241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2"/>
            <a:endCxn id="376" idx="0"/>
          </p:cNvCxnSpPr>
          <p:nvPr/>
        </p:nvCxnSpPr>
        <p:spPr>
          <a:xfrm>
            <a:off x="2352240" y="3419280"/>
            <a:ext cx="1080" cy="1623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378" name=""/>
          <p:cNvCxnSpPr>
            <a:stCxn id="376" idx="3"/>
            <a:endCxn id="359" idx="1"/>
          </p:cNvCxnSpPr>
          <p:nvPr/>
        </p:nvCxnSpPr>
        <p:spPr>
          <a:xfrm flipV="1">
            <a:off x="2724120" y="3156840"/>
            <a:ext cx="743760" cy="6865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9" name=""/>
          <p:cNvSpPr/>
          <p:nvPr/>
        </p:nvSpPr>
        <p:spPr>
          <a:xfrm>
            <a:off x="1981800" y="2895480"/>
            <a:ext cx="59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67880" y="29718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81440" y="3581280"/>
            <a:ext cx="65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g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98640" y="251460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84720" y="25146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67080" y="252576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708200" y="2374920"/>
            <a:ext cx="2774880" cy="2117880"/>
          </a:xfrm>
          <a:prstGeom prst="rect">
            <a:avLst/>
          </a:prstGeom>
          <a:noFill/>
          <a:ln w="3240">
            <a:solidFill>
              <a:srgbClr val="0000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spcAft>
                <a:spcPts val="1001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-&gt;prepare(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reference to an object in th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::d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lass (regardless of dri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DBI::db::prepa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thod is an alias for the DBI dispatch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I dispatch calls the driver’s own prepare metho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ner_hash_ref-&gt;$implementor_class::prepare(..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iver code gets the inner hash so it has fast access to the hash 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race can be very helpful in understanding application behavior and for debug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show detailed driver internal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nabling trac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r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, $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ly effects that handle and any new child handles created from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ild handles get trace level of parent in effect at time of cre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in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-&gt;trace(...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s effective global default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minimu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trac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ex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BI_TRA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2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99061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', '', '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_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_i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92455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1 shows method results and line numb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UPDATE …')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INSERT …')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and abov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' ''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****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~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_i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3 and above shows more processing det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o or to un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at is the ques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05120" y="3130560"/>
            <a:ext cx="6426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1911240"/>
            <a:ext cx="6426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4508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1632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4425840"/>
            <a:ext cx="188568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1812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812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05424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0056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24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18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12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62240" y="5410080"/>
            <a:ext cx="921600" cy="993960"/>
            <a:chOff x="2262240" y="5410080"/>
            <a:chExt cx="92160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262240" y="5410080"/>
              <a:ext cx="921600" cy="993960"/>
              <a:chOff x="2262240" y="5410080"/>
              <a:chExt cx="92160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262240" y="612936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62240" y="5554800"/>
                <a:ext cx="9216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62240" y="541008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270520" y="6264360"/>
              <a:ext cx="908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72320" y="5553000"/>
              <a:ext cx="9050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651200" y="5410080"/>
            <a:ext cx="923400" cy="993960"/>
            <a:chOff x="4651200" y="5410080"/>
            <a:chExt cx="923400" cy="993960"/>
          </a:xfrm>
        </p:grpSpPr>
        <p:grpSp>
          <p:nvGrpSpPr>
            <p:cNvPr id="120" name=""/>
            <p:cNvGrpSpPr/>
            <p:nvPr/>
          </p:nvGrpSpPr>
          <p:grpSpPr>
            <a:xfrm>
              <a:off x="4651200" y="5410080"/>
              <a:ext cx="923400" cy="993960"/>
              <a:chOff x="4651200" y="5410080"/>
              <a:chExt cx="923400" cy="993960"/>
            </a:xfrm>
          </p:grpSpPr>
          <p:sp>
            <p:nvSpPr>
              <p:cNvPr id="121" name=""/>
              <p:cNvSpPr/>
              <p:nvPr/>
            </p:nvSpPr>
            <p:spPr>
              <a:xfrm>
                <a:off x="465120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5120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65120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65948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61640" y="5553000"/>
              <a:ext cx="9068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7056360" y="5410080"/>
            <a:ext cx="923400" cy="993960"/>
            <a:chOff x="7056360" y="5410080"/>
            <a:chExt cx="923400" cy="993960"/>
          </a:xfrm>
        </p:grpSpPr>
        <p:grpSp>
          <p:nvGrpSpPr>
            <p:cNvPr id="127" name=""/>
            <p:cNvGrpSpPr/>
            <p:nvPr/>
          </p:nvGrpSpPr>
          <p:grpSpPr>
            <a:xfrm>
              <a:off x="7056360" y="5410080"/>
              <a:ext cx="923400" cy="993960"/>
              <a:chOff x="7056360" y="5410080"/>
              <a:chExt cx="923400" cy="993960"/>
            </a:xfrm>
          </p:grpSpPr>
          <p:sp>
            <p:nvSpPr>
              <p:cNvPr id="128" name=""/>
              <p:cNvSpPr/>
              <p:nvPr/>
            </p:nvSpPr>
            <p:spPr>
              <a:xfrm>
                <a:off x="705636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05636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5636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706464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66800" y="5553000"/>
              <a:ext cx="9064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67840" y="640080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75160" y="640080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92200" y="640080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7680" y="3505320"/>
            <a:ext cx="156852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20040" y="3505320"/>
            <a:ext cx="140328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picture is worth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What's it all about? 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r more than just loc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.C.I.D.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tomicity - Consistency - Isolation - Durability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ue transactions give true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ven from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ower failur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ystem crash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complete transactions are automatically rolled-back by the database server when it's restar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so removes burden of undoing incomplete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rd to implement (for the vendor) and has significant performance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very large topic worthy of an entire tuto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Life Preserv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Classic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ystem crash between one bank account being debited and another being credi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Dramatic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wer failure during update statement on 3 million rows after 2 minutes when only part way throug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Real-world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lex series of inter-related updates, deletes and inserts on many separate tables fails at the last step due to a duplicate primary key on an inse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action recovery would handl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se situations automatical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kes a system far more robust and trustworthy over the long ter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ransactions if your database supports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 doesn't and you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e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m, switch to a different databa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How the DBI help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ols of the tra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AutoComm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ff,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p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round the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$dbh-&gt;commit;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rollbac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sable AutoCommit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AutoCommit} = 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enable transactions and thus rollback-on-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 RaiseError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RaiseError} = 1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automatically 'throw an exception' after an 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urround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tches the exception, the error text is stored in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@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@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rollback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) if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9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 that a failed statement doesn’t automatically trigger a roll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Example co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Auto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i="1" lang="en-GB" sz="1800" spc="-1" strike="noStrike">
                <a:solidFill>
                  <a:srgbClr val="ffffff"/>
                </a:solidFill>
                <a:latin typeface="Courier New"/>
              </a:rPr>
              <a:t>method(…)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# assorted DBI ca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foo(...);          # application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   # commit the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arn "Transaction aborted because $@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ollback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Further commen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catches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xce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t just from DBI calls. Also catches fatal runtime errors from Per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u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commit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ide the e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sures commit failure is caugh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emember that </a:t>
            </a:r>
            <a:r>
              <a:rPr b="0" i="1" lang="en-GB" sz="1600" spc="-1" strike="noStrike">
                <a:solidFill>
                  <a:srgbClr val="ffffff"/>
                </a:solidFill>
                <a:latin typeface="Courier New"/>
              </a:rPr>
              <a:t>commit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()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tself may fail for many reas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n't forget tha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ollback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y also f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ue to database crash or network failure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o you may want to call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 $dbh-&gt;rollback() 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poin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lways explicitly commit or rollback befor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disconnec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(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estroying a connected $dbh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should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lways rollbac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D blocks can catch exit-without-disconnect to rollback and disconnec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for the Web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Hand waving from 30,000 f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nect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s can be slow to conn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raditional CGI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force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 new connect per requ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ve Perl and DBI into the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 with mod_perl and Apache::DBI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icrosoft IIS with ActiveState's PerlE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nections can then persist and be shared between requ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::DBI automatically used by DBI if loa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CGI script changes required to get persist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ake care not to change the shared session behavi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Leave th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n the same state you found it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alternatives inclu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CGI, CGI::SpeedyCGI and CGI::MiniSv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oo many conne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mits on Database Conn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abase platform resources or licen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mory consumption of web ser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tition web servers into General and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rect database work to the Database web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Reverse Proxy / Redirect / Rewrite to achieve th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llows each subset of servers to be tuned to best fit work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/or be run on appropriate hardware platf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State-less-nes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fixed client-server p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ach request can be handled by a different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n't simply stop fetching when one page is complete and continue fetching from the same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sth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when the next page is reques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 transactions can't span requests. Even if they could you'd have problems with database locks being held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ed access to 'accumulated state' somehow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client (e.g., hidden form fiel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serv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database (records in a session_state table keyed by a ‘session id’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web server file system (DBM files etc) if shared across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eed to purge old state info if stored on server, so timestamp 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ee Apache::Session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::ProxyServer + connect_cached with session id may suit, one 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493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Browsing pages of resul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each time then count/discard (simple but expens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for small results sets or where users rarely view many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fast initial response, degrades gradually for later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in server is better but still inefficient for large result se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affected by inserts and deletes from other proces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with where clause using min/max keys from last 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where original query can be qualified in that wa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, not comm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full result rows somewhere for fast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n be expensive for large result sets with big fiel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only the row keys, fetch full rows as nee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ptimisation of above, use ROWID if supported, "select … where … in (…)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data is static and queries predic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n custom pre-built indexes may be usefu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caches can be on web server, using DBM file for example, or on database server using a table keyed by session 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66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What helps,what doesn'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current edi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to prevent updates overwriting each oth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can use Optimistic Locking via 'qualified update'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update table set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here  key = $old_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1 = $old_field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2 = $old_field2 and …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all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the update row 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's zero then you know the record has been changed or deleted by another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 problems with floating point data values not matc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 support a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ig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resolution 'update timestamp' field that can be checked inst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86080" y="3476520"/>
            <a:ext cx="3500280" cy="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ips for the nov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one step at a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perl + DBI + DBD driver outside the web server fir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web server + non-DBI CGI 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member that CGI scripts run as a different user with a different environment - expect to be tripped up by tha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trac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s your friend - use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he Perl "-w" and "-T" options. Always "use strict;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and inwardly digest the WWW Security FAQ: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w3.org/Security/Faq/www-security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the Perl CGI FAQ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www.perl.com/cgi-bin/pace/pub/doc/FAQs/cgi/perl-cgi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, if appropriate, read the mod_perl information available fro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perl.apache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security tain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y default the DBI ignores Perl 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taint return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check that parameters are not tain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Taint attribute enables that behavi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Perl itself is in taint m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ch handle has it's own inherited Taint attrib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can be enabled for particular connections and disabled for particular statements, for 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 = DBI-&gt;connect(…, { Taint =&gt; 1 }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"select * from safe_table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{Taint} = 0;  # no tainting on this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LONG/BLOB dat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makes LONG / BLOB / MEMO data speci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 practical to pre-allocate fixed size buffers for worst c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tching LONGs - treat as normal fields after set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ReadLen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buffer size to allocate for expect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TruncOk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should truncating-to-fit be allow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serting LO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limitations of string liter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benefits of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unking / Piecewise processing not sup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you're limited to available mem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rivers suppor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blob_rea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other private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Holy Gr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o be taken with a pinch of sa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 in pract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 requires care and testing - it can be tric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latform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e easier b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atabase client software (and server if requir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BD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D::Proxy can address both these issues - see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abase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more tric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SQL dialects cause most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data types can also be a probl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river capabilities (placeholders et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x::Compat module (in DBIx::RecordSet) may be usefu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standard DBI test suite is needed (and planne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ower of the Prox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hin clients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nd other buzz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changes in application behav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y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xy can be made completely transparent by setting th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_AUTOPROX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not even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::ProxyServer works on Win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 to Access and other Win32 ODBC and ADO data 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ed by Jochen Wiedma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Proxy Pictur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412920" y="2057400"/>
            <a:ext cx="3301560" cy="2514600"/>
            <a:chOff x="412920" y="2057400"/>
            <a:chExt cx="3301560" cy="2514600"/>
          </a:xfrm>
        </p:grpSpPr>
        <p:sp>
          <p:nvSpPr>
            <p:cNvPr id="439" name=""/>
            <p:cNvSpPr/>
            <p:nvPr/>
          </p:nvSpPr>
          <p:spPr>
            <a:xfrm>
              <a:off x="412920" y="2057400"/>
              <a:ext cx="330156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292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36368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42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12920" y="5486400"/>
            <a:ext cx="3301200" cy="762120"/>
            <a:chOff x="412920" y="5486400"/>
            <a:chExt cx="3301200" cy="762120"/>
          </a:xfrm>
        </p:grpSpPr>
        <p:sp>
          <p:nvSpPr>
            <p:cNvPr id="444" name=""/>
            <p:cNvSpPr/>
            <p:nvPr/>
          </p:nvSpPr>
          <p:spPr>
            <a:xfrm>
              <a:off x="412920" y="5486400"/>
              <a:ext cx="33012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7088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2920" y="579132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748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641320" y="5791320"/>
              <a:ext cx="10728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6809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191280" y="4724280"/>
            <a:ext cx="3301560" cy="762120"/>
            <a:chOff x="6191280" y="4724280"/>
            <a:chExt cx="3301560" cy="762120"/>
          </a:xfrm>
        </p:grpSpPr>
        <p:sp>
          <p:nvSpPr>
            <p:cNvPr id="451" name=""/>
            <p:cNvSpPr/>
            <p:nvPr/>
          </p:nvSpPr>
          <p:spPr>
            <a:xfrm>
              <a:off x="619128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13916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6191280" y="2057400"/>
            <a:ext cx="3301560" cy="2514600"/>
            <a:chOff x="6191280" y="2057400"/>
            <a:chExt cx="3301560" cy="2514600"/>
          </a:xfrm>
        </p:grpSpPr>
        <p:sp>
          <p:nvSpPr>
            <p:cNvPr id="454" name=""/>
            <p:cNvSpPr/>
            <p:nvPr/>
          </p:nvSpPr>
          <p:spPr>
            <a:xfrm>
              <a:off x="619128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20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91280" y="2057400"/>
              <a:ext cx="330156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1607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191280" y="28954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3384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191280" y="3200400"/>
              <a:ext cx="99036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22944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584560" y="320040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191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3738600" y="3429000"/>
            <a:ext cx="2451960" cy="2590200"/>
            <a:chOff x="3738600" y="3429000"/>
            <a:chExt cx="2451960" cy="2590200"/>
          </a:xfrm>
        </p:grpSpPr>
        <p:sp>
          <p:nvSpPr>
            <p:cNvPr id="465" name=""/>
            <p:cNvSpPr/>
            <p:nvPr/>
          </p:nvSpPr>
          <p:spPr>
            <a:xfrm>
              <a:off x="4292280" y="3505320"/>
              <a:ext cx="148608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6" name=""/>
            <p:cNvCxnSpPr>
              <a:stCxn id="461" idx="1"/>
              <a:endCxn id="465" idx="0"/>
            </p:cNvCxnSpPr>
            <p:nvPr/>
          </p:nvCxnSpPr>
          <p:spPr>
            <a:xfrm flipV="1" rot="10800000">
              <a:off x="5775840" y="3428640"/>
              <a:ext cx="415080" cy="838800"/>
            </a:xfrm>
            <a:prstGeom prst="curvedConnector5">
              <a:avLst>
                <a:gd name="adj1" fmla="val 49739"/>
                <a:gd name="adj2" fmla="val 49978"/>
                <a:gd name="adj3" fmla="val 49739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67" name=""/>
            <p:cNvCxnSpPr>
              <a:stCxn id="465" idx="1"/>
              <a:endCxn id="449" idx="3"/>
            </p:cNvCxnSpPr>
            <p:nvPr/>
          </p:nvCxnSpPr>
          <p:spPr>
            <a:xfrm flipV="1" rot="10800000">
              <a:off x="3738600" y="4266000"/>
              <a:ext cx="559080" cy="1753560"/>
            </a:xfrm>
            <a:prstGeom prst="curvedConnector5">
              <a:avLst>
                <a:gd name="adj1" fmla="val 50451"/>
                <a:gd name="adj2" fmla="val 50000"/>
                <a:gd name="adj3" fmla="val 50451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68" name=""/>
            <p:cNvSpPr/>
            <p:nvPr/>
          </p:nvSpPr>
          <p:spPr>
            <a:xfrm>
              <a:off x="457488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12920" y="4724280"/>
            <a:ext cx="3301560" cy="762120"/>
            <a:chOff x="412920" y="4724280"/>
            <a:chExt cx="3301560" cy="762120"/>
          </a:xfrm>
        </p:grpSpPr>
        <p:sp>
          <p:nvSpPr>
            <p:cNvPr id="470" name=""/>
            <p:cNvSpPr/>
            <p:nvPr/>
          </p:nvSpPr>
          <p:spPr>
            <a:xfrm>
              <a:off x="13665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292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in clients and other buzz word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remote access: "thin-client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need for database client code on the DBI cli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network security: "encrypt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use Crypt::IDEA, Crypt::DES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"access control" and "firewalls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andy for web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action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.g., only allow specific select or insert stat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performance: "compress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compress data transfers using Compress::Zli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</a:t>
            </a:r>
            <a:r>
              <a:rPr b="0" lang="en-US" sz="4800" spc="-1" strike="noStrike">
                <a:solidFill>
                  <a:srgbClr val="00cccc"/>
                </a:solidFill>
                <a:latin typeface="Times New Roman"/>
              </a:rPr>
              <a:t>p</a:t>
            </a:r>
            <a:r>
              <a:rPr b="0" lang="en-US" sz="54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0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600" spc="-1" strike="noStrike">
                <a:solidFill>
                  <a:srgbClr val="00cccc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w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speed from day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ethod dispatcher written in hand-crafted XS/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to XS driver method calls optim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ched attributes returned directly by DBI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overhead is generally insignific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we'll talk about other speed issues instead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ractical realiti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des of 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-threaded Mode - one thread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safe for production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 is thread-safe but not thread-h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king Mode - one process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practical mode for UNIX-like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esn’t scale to large numbers of conne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available on Windows prior to Perl 5.6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ork emulation in Perl 5.6.0 not tested with DBI y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ngle Connection Mode - one one connection suppor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bviously only of limite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round-robin mode available y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Flexing the 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new kid on the b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D::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D::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s to multiple databases at once (via DB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ecutes each statement on each database by defa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ld be configured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nser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nto all databases but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llback to alternate database if primary is unavail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round-robin / or at random to distribute 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all and check results (pick most comm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be used with DBD::Proxy, either above or be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y also acquire fancy caching in later ver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tch this space: ftp://not.tdlc.com/pub/Multiplex.p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ed by Thomas Kishel and Tim Bu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ference Materia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1"/>
              </a:rPr>
              <a:t>http://www.symbolstone.org/technology/perl/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e DBI Home P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2"/>
              </a:rPr>
              <a:t>http://www.isc.org/dbi-lists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subscribe to the DBI Mailing Lis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1_1997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1.0 - general int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2_1998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2.0 - more dep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4_2000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is DBI tutorial at The Perl Conference 4.0 (based on the 3.0 tutorial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oreilly.com/catalog/perldbi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r http://www.amazon.com/exec/obidos/ASIN/1565926994/d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ogramming the Perl DBI -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DBI book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115640" y="4114800"/>
            <a:ext cx="82472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Till next yea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p.s. I’m also giving three semin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on the Database Discovery cruise, June 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www.GeekCruises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artition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lication partit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what where? - stop and think - work smarter not har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ick the right database for the job, if you have the cho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 close to th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ving data to/from the client is always expens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sider latency as well as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stored procedures where appropr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more in SQL where appropriate - get a good bo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ple simple queries with 'joins' in Perl may be fas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proprietary bulk-load, not Perl, where appropri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sider local caching, in memory or DBM file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x 'n Match techniques as needed - experiment and benchmar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repare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what happens in the server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ceive and parse the SQL statement into internal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access rights for 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data types in expres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indices on all the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 an optimised query 'access plan' for best exec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turn a handle for all this cached infor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can be an expensive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specially the 'access plan’ for a complex multi-table qu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, like MySQL, don't cache the information but have simpler, and thus faster, plan cre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How would you do 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SELECT * FROM t1, t2  WHERE t1.key=1 AND t2.key=2 AND t1.value=t2.va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possible approac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one table using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, loop for each row returned, and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the other table using it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 and the current row’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which table to select firs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keep it simple, assume that both tables have the same value in all r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n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.key=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000 rows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.key=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 we know that we should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that way we only have to select from each table o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selected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 then we’d have to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000 tim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alternative approach would be to select from both and mer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IG</cp:lastModifiedBy>
  <cp:lastPrinted>2000-07-14T21:24:25Z</cp:lastPrinted>
  <dcterms:modified xsi:type="dcterms:W3CDTF">2000-07-18T04:26:47Z</dcterms:modified>
  <cp:revision>93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home\timbo\dbi\Talk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